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6943-143D-4BFE-A035-004FF83CA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EA2A-FB35-4856-BDC4-D809FAA9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E93D-413C-41C2-B1EA-4056F2383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A0F9-F647-46F4-8540-F62D814A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711C-5FEC-4F1D-B1B3-66152C30F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761B-E34C-45EB-898F-9893E625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0596-EAF0-428F-91FA-7DE32BD0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CF95-2DBD-4DAD-8BFE-823AEB69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1E0D-293E-4564-8B61-629F73F0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DDF8-F36D-4D8E-8998-616159F3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E564-A05E-4FDF-903B-A0BCB94B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7900-7D1A-468C-AEF5-61257E5D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C61C-7493-467A-AEAD-AE2A149B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46BD-5B29-452F-A34F-DF7A2AFC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8BC3-52E6-4902-87FD-3E327973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CECC-69A9-4270-B5B7-F829F0EEC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6E49-141A-4306-9DAE-4AE24116D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6F74ED-56A5-43D0-9AA3-3424354F8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DFBA89-10C5-44D2-B9D4-B45437A5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AA81C9-3FAB-4909-B9B0-63723EBE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041279-C2A4-4771-8F65-BE8548D3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36C042-1E39-452F-A985-8AB44313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F06A-BFD6-48E0-93F7-02396E61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0DBC2A-CD72-48FC-BCBC-45F3DC00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73D3E9-321F-4952-918D-3CEE4095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7B92B1-A1F0-44AC-AF70-8C37A5B6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EA9F4B-9EE1-486D-9155-6F2D3532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CCBBCF-306B-4674-B1F8-AA2B936D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C73A07-A7AD-4B54-B939-50400A981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8DED63-AFB6-4F2E-829F-51BE782DC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E2281-5E35-4107-B364-B655E8303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740DE-9742-469C-BA38-AC43CF63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D938C-13F5-41A5-B874-ACA41E8F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7C50-7D3D-40F6-845D-DCBF7EA3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A3A40-45A5-4133-8181-4CBF1A97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E387B-A451-485C-9B43-1922EC62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16742-9007-4443-8C00-4A1710FA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43150-D4BA-4AED-B485-85E72B07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7F07A-9382-4F78-9E0B-6270A54B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48328-11BD-44D8-BDCF-4728B531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FB54D-8DAD-4BBB-8495-41653EB4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DB3C9-D210-49A3-996A-328D5CDD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C0233-7E93-4C61-A8B1-2D39974F6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0799A1-EC95-43C1-8393-E42C4DBB5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0ED5-E862-4483-B7B6-39A704FF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6519DD-9393-47F9-94CC-2618B322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CC0971-D24F-45EA-AC16-7CBBEC90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DE5194-78AB-401E-A144-4ADE81D6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36954A-25ED-4B0D-9495-63C54CF8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47CA51-5A10-4326-951F-01690549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083CD5-2581-4907-B9C0-919C7D9C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EB437B-3ACF-409B-81B9-E8F77A33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FA3C0F-5792-4590-BA7E-E0FAF727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1B226A-8772-4DF8-9946-518DE355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5C8741-9014-42BA-8752-9AA73DA4F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2A7C-667F-4547-BF02-4DCDDE08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12F5EB-CD0D-4E91-8237-82C4619A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34BA05-6BF1-4CE0-A4DD-7EF740932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B3E3A5-B866-4FB5-873F-B7344B87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748210-1ACE-46A7-ABF3-E8E11E2A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405344-E97B-416C-BEED-3F1EA669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A25863-FAC8-41D0-B5E0-2D640498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3DA969-05F1-4F66-A52D-E91E62B0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82C61D-CB76-4BDD-A916-8C53F4BB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794C37-C3D2-4AC5-BD79-D47F6653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D69B95-B29D-4485-BE34-6D583528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624E-9D94-4CA0-BCF8-59C8DB36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FC6121-8F01-4E63-82A8-4D4FCE25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37178C-08F8-43FC-BBF1-D5448CF1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D4C61B-3C2A-4DA8-AEB1-5DDC5620B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B1F849-AEA6-431A-9F6B-473E27294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FD8B66-043F-4DB5-A83A-819AAE7A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6B8EC9-6EEC-4BF8-9DDF-1834B07D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5634CE-D350-4112-99C2-ABB9A4EC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521B8C-9404-4F40-82C1-93CC8F3E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8E0A7D-A7A0-4E23-932B-2DC4870C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FEDCB4-F9A5-4A04-A511-4086B7DC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7660-A65E-4A25-BEEC-4980AF36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23BD13-EF2C-4733-AA96-6ABA0C0A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E1AC09-B7C0-4DE7-A807-BBDF62BA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BAED82-9740-4B32-AE70-104146DB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3A2262-9F7B-43AA-B9A1-7D5E7989E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E3DC46-3843-4716-A5D9-935239FAB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C5AD-B839-4248-A01D-E765644F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C4DB-A5A3-4794-8B12-518AF8BA864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6B2C-C497-4D68-B240-EE9B0248B16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8DE7-B052-4E99-9215-A51B72968CC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D6E3-0ECB-495B-AC10-B374A52F6D6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B38A-7837-4E03-B839-22FF99AE8B9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24DA-9AEC-45EE-9C1D-8E14172703C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C2A4-A600-46FC-B4E6-357AC61699E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media.pearsoncmg.com/bc/bc_campbell_concepts_5/media/assets/interactivemedia/activityshared/ActivityLoader.html?cmr3e&amp;24&amp;01&amp;24B%20Immune%20Responses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CHAPTER 24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_x001d__x001d__x001d_The Immune System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04920" y="685800"/>
            <a:ext cx="85341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836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24.3 The lymphatic system becomes a crucial battleground during infection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342720">
              <a:spcBef>
                <a:spcPts val="774"/>
              </a:spcBef>
              <a:buClr>
                <a:srgbClr val="fe863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The lymphatic system 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04840" indent="-533160">
              <a:spcBef>
                <a:spcPts val="774"/>
              </a:spcBef>
              <a:buClr>
                <a:srgbClr val="5194ff"/>
              </a:buClr>
              <a:buSzPct val="60000"/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Is a network of lymphatic vessels and organs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9" name="Text Box 10"/>
          <p:cNvSpPr/>
          <p:nvPr/>
        </p:nvSpPr>
        <p:spPr>
          <a:xfrm>
            <a:off x="1317600" y="589284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4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165"/>
          <p:cNvGrpSpPr/>
          <p:nvPr/>
        </p:nvGrpSpPr>
        <p:grpSpPr>
          <a:xfrm>
            <a:off x="2446200" y="2857680"/>
            <a:ext cx="5693040" cy="3419280"/>
            <a:chOff x="2446200" y="2857680"/>
            <a:chExt cx="5693040" cy="3419280"/>
          </a:xfrm>
        </p:grpSpPr>
        <p:pic>
          <p:nvPicPr>
            <p:cNvPr id="442" name="Picture 114" descr="_x001d_24_03HumLymphaticSystem_U.jpg                                  0051883F_x0003_203                            BE6DF1D0:"/>
            <p:cNvPicPr/>
            <p:nvPr/>
          </p:nvPicPr>
          <p:blipFill>
            <a:blip r:embed="rId1"/>
            <a:stretch/>
          </p:blipFill>
          <p:spPr>
            <a:xfrm>
              <a:off x="2446200" y="2857680"/>
              <a:ext cx="4942080" cy="34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Text Box 115"/>
            <p:cNvSpPr/>
            <p:nvPr/>
          </p:nvSpPr>
          <p:spPr>
            <a:xfrm>
              <a:off x="2935440" y="2954160"/>
              <a:ext cx="572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denoi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116"/>
            <p:cNvSpPr/>
            <p:nvPr/>
          </p:nvSpPr>
          <p:spPr>
            <a:xfrm>
              <a:off x="3033720" y="3147840"/>
              <a:ext cx="504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onsi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117"/>
            <p:cNvSpPr/>
            <p:nvPr/>
          </p:nvSpPr>
          <p:spPr>
            <a:xfrm>
              <a:off x="2660760" y="3328920"/>
              <a:ext cx="806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ymph nod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118"/>
            <p:cNvSpPr/>
            <p:nvPr/>
          </p:nvSpPr>
          <p:spPr>
            <a:xfrm>
              <a:off x="2508120" y="3527280"/>
              <a:ext cx="884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ight lymphatic duct, entering ve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119"/>
            <p:cNvSpPr/>
            <p:nvPr/>
          </p:nvSpPr>
          <p:spPr>
            <a:xfrm flipH="1">
              <a:off x="2809800" y="3763800"/>
              <a:ext cx="1052640" cy="114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120"/>
            <p:cNvSpPr/>
            <p:nvPr/>
          </p:nvSpPr>
          <p:spPr>
            <a:xfrm>
              <a:off x="2538360" y="3952800"/>
              <a:ext cx="749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hymu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121"/>
            <p:cNvSpPr/>
            <p:nvPr/>
          </p:nvSpPr>
          <p:spPr>
            <a:xfrm>
              <a:off x="2523960" y="4862520"/>
              <a:ext cx="749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endi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122"/>
            <p:cNvSpPr/>
            <p:nvPr/>
          </p:nvSpPr>
          <p:spPr>
            <a:xfrm flipH="1">
              <a:off x="2779560" y="4317840"/>
              <a:ext cx="1146240" cy="206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123"/>
            <p:cNvSpPr/>
            <p:nvPr/>
          </p:nvSpPr>
          <p:spPr>
            <a:xfrm>
              <a:off x="2475000" y="4297320"/>
              <a:ext cx="59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horacic duc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124"/>
            <p:cNvSpPr/>
            <p:nvPr/>
          </p:nvSpPr>
          <p:spPr>
            <a:xfrm flipH="1" flipV="1">
              <a:off x="3449520" y="3066840"/>
              <a:ext cx="509760" cy="239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125"/>
            <p:cNvSpPr/>
            <p:nvPr/>
          </p:nvSpPr>
          <p:spPr>
            <a:xfrm flipH="1" flipV="1">
              <a:off x="3444480" y="3254400"/>
              <a:ext cx="412920" cy="9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126"/>
            <p:cNvSpPr/>
            <p:nvPr/>
          </p:nvSpPr>
          <p:spPr>
            <a:xfrm flipH="1" flipV="1">
              <a:off x="3444480" y="3432240"/>
              <a:ext cx="492120" cy="46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127"/>
            <p:cNvSpPr/>
            <p:nvPr/>
          </p:nvSpPr>
          <p:spPr>
            <a:xfrm flipH="1" flipV="1">
              <a:off x="3439800" y="3431880"/>
              <a:ext cx="37764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128"/>
            <p:cNvSpPr/>
            <p:nvPr/>
          </p:nvSpPr>
          <p:spPr>
            <a:xfrm flipH="1">
              <a:off x="3049560" y="3867120"/>
              <a:ext cx="922320" cy="18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129"/>
            <p:cNvSpPr/>
            <p:nvPr/>
          </p:nvSpPr>
          <p:spPr>
            <a:xfrm>
              <a:off x="3119400" y="4968720"/>
              <a:ext cx="628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130"/>
            <p:cNvSpPr/>
            <p:nvPr/>
          </p:nvSpPr>
          <p:spPr>
            <a:xfrm>
              <a:off x="2840040" y="5553000"/>
              <a:ext cx="53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one marr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131"/>
            <p:cNvSpPr/>
            <p:nvPr/>
          </p:nvSpPr>
          <p:spPr>
            <a:xfrm>
              <a:off x="4529160" y="5526000"/>
              <a:ext cx="67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ymphatic vessel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32"/>
            <p:cNvSpPr/>
            <p:nvPr/>
          </p:nvSpPr>
          <p:spPr>
            <a:xfrm>
              <a:off x="4332240" y="5450040"/>
              <a:ext cx="211320" cy="22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33"/>
            <p:cNvSpPr/>
            <p:nvPr/>
          </p:nvSpPr>
          <p:spPr>
            <a:xfrm flipV="1">
              <a:off x="4211640" y="5665680"/>
              <a:ext cx="33192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134"/>
            <p:cNvSpPr/>
            <p:nvPr/>
          </p:nvSpPr>
          <p:spPr>
            <a:xfrm>
              <a:off x="4583160" y="4840200"/>
              <a:ext cx="674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plee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35"/>
            <p:cNvSpPr/>
            <p:nvPr/>
          </p:nvSpPr>
          <p:spPr>
            <a:xfrm>
              <a:off x="4143240" y="4489560"/>
              <a:ext cx="481320" cy="447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36"/>
            <p:cNvSpPr/>
            <p:nvPr/>
          </p:nvSpPr>
          <p:spPr>
            <a:xfrm flipV="1">
              <a:off x="3983040" y="3529080"/>
              <a:ext cx="404640" cy="19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137"/>
            <p:cNvSpPr/>
            <p:nvPr/>
          </p:nvSpPr>
          <p:spPr>
            <a:xfrm>
              <a:off x="4325760" y="3359160"/>
              <a:ext cx="87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horacic duct, entering ve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38"/>
            <p:cNvSpPr/>
            <p:nvPr/>
          </p:nvSpPr>
          <p:spPr>
            <a:xfrm flipV="1">
              <a:off x="6146640" y="3484080"/>
              <a:ext cx="306720" cy="120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139"/>
            <p:cNvSpPr/>
            <p:nvPr/>
          </p:nvSpPr>
          <p:spPr>
            <a:xfrm>
              <a:off x="6434280" y="3359160"/>
              <a:ext cx="8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Lymph no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40"/>
            <p:cNvSpPr/>
            <p:nvPr/>
          </p:nvSpPr>
          <p:spPr>
            <a:xfrm>
              <a:off x="6122880" y="3763800"/>
              <a:ext cx="444600" cy="22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41"/>
            <p:cNvSpPr/>
            <p:nvPr/>
          </p:nvSpPr>
          <p:spPr>
            <a:xfrm flipV="1">
              <a:off x="6230880" y="3792240"/>
              <a:ext cx="338040" cy="160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142"/>
            <p:cNvSpPr/>
            <p:nvPr/>
          </p:nvSpPr>
          <p:spPr>
            <a:xfrm>
              <a:off x="6556320" y="3605040"/>
              <a:ext cx="961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sses of lymphocytes and macrophag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143"/>
            <p:cNvSpPr/>
            <p:nvPr/>
          </p:nvSpPr>
          <p:spPr>
            <a:xfrm flipV="1">
              <a:off x="6110280" y="4297320"/>
              <a:ext cx="360360" cy="316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144"/>
            <p:cNvSpPr/>
            <p:nvPr/>
          </p:nvSpPr>
          <p:spPr>
            <a:xfrm>
              <a:off x="6427800" y="41464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alv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145"/>
            <p:cNvSpPr/>
            <p:nvPr/>
          </p:nvSpPr>
          <p:spPr>
            <a:xfrm flipV="1">
              <a:off x="6178680" y="4449240"/>
              <a:ext cx="328320" cy="343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146"/>
            <p:cNvSpPr/>
            <p:nvPr/>
          </p:nvSpPr>
          <p:spPr>
            <a:xfrm>
              <a:off x="6485040" y="4309920"/>
              <a:ext cx="981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ymphatic vess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147"/>
            <p:cNvSpPr/>
            <p:nvPr/>
          </p:nvSpPr>
          <p:spPr>
            <a:xfrm flipV="1">
              <a:off x="6562800" y="4632480"/>
              <a:ext cx="4111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148"/>
            <p:cNvSpPr/>
            <p:nvPr/>
          </p:nvSpPr>
          <p:spPr>
            <a:xfrm>
              <a:off x="6943680" y="4508640"/>
              <a:ext cx="871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lood capilla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149"/>
            <p:cNvSpPr/>
            <p:nvPr/>
          </p:nvSpPr>
          <p:spPr>
            <a:xfrm>
              <a:off x="6861240" y="4741920"/>
              <a:ext cx="336600" cy="3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150"/>
            <p:cNvSpPr/>
            <p:nvPr/>
          </p:nvSpPr>
          <p:spPr>
            <a:xfrm flipV="1">
              <a:off x="6940440" y="4770360"/>
              <a:ext cx="257400" cy="13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151"/>
            <p:cNvSpPr/>
            <p:nvPr/>
          </p:nvSpPr>
          <p:spPr>
            <a:xfrm>
              <a:off x="7145280" y="4664160"/>
              <a:ext cx="74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issue cell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152"/>
            <p:cNvSpPr/>
            <p:nvPr/>
          </p:nvSpPr>
          <p:spPr>
            <a:xfrm>
              <a:off x="6821640" y="4959360"/>
              <a:ext cx="468000" cy="8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153"/>
            <p:cNvSpPr/>
            <p:nvPr/>
          </p:nvSpPr>
          <p:spPr>
            <a:xfrm>
              <a:off x="7250040" y="4930920"/>
              <a:ext cx="889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erstitial flui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154"/>
            <p:cNvSpPr/>
            <p:nvPr/>
          </p:nvSpPr>
          <p:spPr>
            <a:xfrm flipH="1">
              <a:off x="5848200" y="5524560"/>
              <a:ext cx="378000" cy="44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155"/>
            <p:cNvSpPr/>
            <p:nvPr/>
          </p:nvSpPr>
          <p:spPr>
            <a:xfrm>
              <a:off x="5551560" y="5929200"/>
              <a:ext cx="66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ymphatic capilla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161"/>
            <p:cNvGrpSpPr/>
            <p:nvPr/>
          </p:nvGrpSpPr>
          <p:grpSpPr>
            <a:xfrm>
              <a:off x="4257720" y="3983040"/>
              <a:ext cx="103320" cy="131760"/>
              <a:chOff x="4257720" y="3983040"/>
              <a:chExt cx="103320" cy="131760"/>
            </a:xfrm>
          </p:grpSpPr>
          <p:sp>
            <p:nvSpPr>
              <p:cNvPr id="485" name="Oval 158"/>
              <p:cNvSpPr/>
              <p:nvPr/>
            </p:nvSpPr>
            <p:spPr>
              <a:xfrm>
                <a:off x="4257720" y="3983040"/>
                <a:ext cx="65160" cy="651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Oval 159"/>
              <p:cNvSpPr/>
              <p:nvPr/>
            </p:nvSpPr>
            <p:spPr>
              <a:xfrm>
                <a:off x="4295880" y="4049640"/>
                <a:ext cx="65160" cy="651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Line 162"/>
            <p:cNvSpPr/>
            <p:nvPr/>
          </p:nvSpPr>
          <p:spPr>
            <a:xfrm>
              <a:off x="3322800" y="5724360"/>
              <a:ext cx="406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304920" y="685800"/>
            <a:ext cx="8534160" cy="30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lnSpc>
                <a:spcPct val="9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vessels collect fluid from body tissu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lnSpc>
                <a:spcPct val="90000"/>
              </a:lnSpc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nd return it as lymph to the bloo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lnSpc>
                <a:spcPct val="9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Lymph organs such as the spleen and lymph nod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lnSpc>
                <a:spcPct val="90000"/>
              </a:lnSpc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re packed with white blood cells that fight infection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8e49"/>
                </a:solidFill>
                <a:latin typeface="Century Schoolbook"/>
              </a:rPr>
              <a:t>ACQUIRED IMMUNIT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4.4 The immune response counters specific invad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75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munity= resistance to specific invade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ur immune system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28800" indent="-507960">
              <a:lnSpc>
                <a:spcPct val="90000"/>
              </a:lnSpc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sponds to foreign molecules called antigen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immune system reacts to antigen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28800" indent="-507960">
              <a:lnSpc>
                <a:spcPct val="90000"/>
              </a:lnSpc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nd “remembers” an invade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2101680" indent="-507960">
              <a:lnSpc>
                <a:spcPct val="90000"/>
              </a:lnSpc>
              <a:spcBef>
                <a:spcPts val="56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s is the job for </a:t>
            </a: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Memory B-Cell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2101680" indent="-507960">
              <a:lnSpc>
                <a:spcPct val="90000"/>
              </a:lnSpc>
              <a:spcBef>
                <a:spcPts val="56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-cells produce </a:t>
            </a: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Antibodi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42"/>
          <p:cNvGrpSpPr/>
          <p:nvPr/>
        </p:nvGrpSpPr>
        <p:grpSpPr>
          <a:xfrm>
            <a:off x="1217520" y="2381400"/>
            <a:ext cx="5869080" cy="4158720"/>
            <a:chOff x="1217520" y="2381400"/>
            <a:chExt cx="5869080" cy="4158720"/>
          </a:xfrm>
        </p:grpSpPr>
        <p:pic>
          <p:nvPicPr>
            <p:cNvPr id="495" name="Picture 20" descr="_x001f_24_07ImmuneResponsePhases_U.jpg                                0051883F_x0003_203                            BE6DF1D0:"/>
            <p:cNvPicPr/>
            <p:nvPr/>
          </p:nvPicPr>
          <p:blipFill>
            <a:blip r:embed="rId1"/>
            <a:stretch/>
          </p:blipFill>
          <p:spPr>
            <a:xfrm>
              <a:off x="1217520" y="2381400"/>
              <a:ext cx="5869080" cy="368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Text Box 21"/>
            <p:cNvSpPr/>
            <p:nvPr/>
          </p:nvSpPr>
          <p:spPr>
            <a:xfrm>
              <a:off x="3193920" y="2749320"/>
              <a:ext cx="12938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00"/>
                  </a:solidFill>
                  <a:latin typeface="Arial"/>
                </a:rPr>
                <a:t>Second exposure to antigen X, first exposure to antigen 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22"/>
            <p:cNvSpPr/>
            <p:nvPr/>
          </p:nvSpPr>
          <p:spPr>
            <a:xfrm>
              <a:off x="1757160" y="3784320"/>
              <a:ext cx="1255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rst exposure to antigen 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23"/>
            <p:cNvSpPr/>
            <p:nvPr/>
          </p:nvSpPr>
          <p:spPr>
            <a:xfrm>
              <a:off x="2395440" y="4275000"/>
              <a:ext cx="1257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1999"/>
                  </a:solidFill>
                  <a:latin typeface="Arial"/>
                </a:rPr>
                <a:t>Primary immune response to antigen 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 Box 24"/>
            <p:cNvSpPr/>
            <p:nvPr/>
          </p:nvSpPr>
          <p:spPr>
            <a:xfrm>
              <a:off x="4929120" y="4336920"/>
              <a:ext cx="1258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00"/>
                  </a:solidFill>
                  <a:latin typeface="Arial"/>
                </a:rPr>
                <a:t>Primary immune response to antigen 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 Box 25"/>
            <p:cNvSpPr/>
            <p:nvPr/>
          </p:nvSpPr>
          <p:spPr>
            <a:xfrm>
              <a:off x="4470120" y="5337000"/>
              <a:ext cx="1258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ibodies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 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26"/>
            <p:cNvSpPr/>
            <p:nvPr/>
          </p:nvSpPr>
          <p:spPr>
            <a:xfrm>
              <a:off x="2358720" y="5357520"/>
              <a:ext cx="1256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ibodies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 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27"/>
            <p:cNvSpPr/>
            <p:nvPr/>
          </p:nvSpPr>
          <p:spPr>
            <a:xfrm rot="16200000">
              <a:off x="533520" y="3861360"/>
              <a:ext cx="1712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ibody concent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 Box 28"/>
            <p:cNvSpPr/>
            <p:nvPr/>
          </p:nvSpPr>
          <p:spPr>
            <a:xfrm>
              <a:off x="1452240" y="5910120"/>
              <a:ext cx="498168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              7             14             21            28             35             42             49            56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 (day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29"/>
            <p:cNvSpPr/>
            <p:nvPr/>
          </p:nvSpPr>
          <p:spPr>
            <a:xfrm rot="16200000">
              <a:off x="5416200" y="2218680"/>
              <a:ext cx="328320" cy="2522520"/>
            </a:xfrm>
            <a:custGeom>
              <a:avLst/>
              <a:gdLst>
                <a:gd name="textAreaLeft" fmla="*/ 0 w 328320"/>
                <a:gd name="textAreaRight" fmla="*/ 118440 w 328320"/>
                <a:gd name="textAreaTop" fmla="*/ 65520 h 2522520"/>
                <a:gd name="textAreaBottom" fmla="*/ 2457000 h 252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83"/>
                  </a:lnTo>
                  <a:cubicBezTo>
                    <a:pt x="10800" y="9983"/>
                    <a:pt x="16200" y="10883"/>
                    <a:pt x="21600" y="10883"/>
                  </a:cubicBezTo>
                  <a:cubicBezTo>
                    <a:pt x="16200" y="10883"/>
                    <a:pt x="10800" y="11783"/>
                    <a:pt x="10800" y="12683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1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30"/>
            <p:cNvSpPr/>
            <p:nvPr/>
          </p:nvSpPr>
          <p:spPr>
            <a:xfrm>
              <a:off x="4906800" y="2734920"/>
              <a:ext cx="1376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1999"/>
                  </a:solidFill>
                  <a:latin typeface="Arial"/>
                </a:rPr>
                <a:t>Secondary immune response to antigen</a:t>
              </a:r>
              <a:br>
                <a:rPr sz="1000"/>
              </a:br>
              <a:r>
                <a:rPr b="0" lang="en-US" sz="1000" spc="-1" strike="noStrike">
                  <a:solidFill>
                    <a:srgbClr val="001999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31"/>
            <p:cNvSpPr/>
            <p:nvPr/>
          </p:nvSpPr>
          <p:spPr>
            <a:xfrm rot="16200000">
              <a:off x="5397480" y="4095360"/>
              <a:ext cx="242640" cy="1931760"/>
            </a:xfrm>
            <a:custGeom>
              <a:avLst/>
              <a:gdLst>
                <a:gd name="textAreaLeft" fmla="*/ 0 w 242640"/>
                <a:gd name="textAreaRight" fmla="*/ 87480 w 242640"/>
                <a:gd name="textAreaTop" fmla="*/ 50040 h 1931760"/>
                <a:gd name="textAreaBottom" fmla="*/ 1881720 h 19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83"/>
                  </a:lnTo>
                  <a:cubicBezTo>
                    <a:pt x="10800" y="9983"/>
                    <a:pt x="16200" y="10883"/>
                    <a:pt x="21600" y="10883"/>
                  </a:cubicBezTo>
                  <a:cubicBezTo>
                    <a:pt x="16200" y="10883"/>
                    <a:pt x="10800" y="11783"/>
                    <a:pt x="10800" y="12683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AutoShape 32"/>
            <p:cNvSpPr/>
            <p:nvPr/>
          </p:nvSpPr>
          <p:spPr>
            <a:xfrm rot="16200000">
              <a:off x="2876400" y="4044240"/>
              <a:ext cx="244080" cy="1930680"/>
            </a:xfrm>
            <a:custGeom>
              <a:avLst/>
              <a:gdLst>
                <a:gd name="textAreaLeft" fmla="*/ 0 w 244080"/>
                <a:gd name="textAreaRight" fmla="*/ 88200 w 244080"/>
                <a:gd name="textAreaTop" fmla="*/ 50040 h 1930680"/>
                <a:gd name="textAreaBottom" fmla="*/ 1880640 h 193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83"/>
                  </a:lnTo>
                  <a:cubicBezTo>
                    <a:pt x="10800" y="9983"/>
                    <a:pt x="16200" y="10883"/>
                    <a:pt x="21600" y="10883"/>
                  </a:cubicBezTo>
                  <a:cubicBezTo>
                    <a:pt x="16200" y="10883"/>
                    <a:pt x="10800" y="11783"/>
                    <a:pt x="10800" y="12683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1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Text Box 33"/>
          <p:cNvSpPr/>
          <p:nvPr/>
        </p:nvSpPr>
        <p:spPr>
          <a:xfrm>
            <a:off x="1319400" y="614664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4.7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37"/>
          <p:cNvSpPr/>
          <p:nvPr/>
        </p:nvSpPr>
        <p:spPr>
          <a:xfrm>
            <a:off x="304920" y="685800"/>
            <a:ext cx="8534160" cy="15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rimary vs. Secondary Immune Respon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411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imary immune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897200" indent="-576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575f6d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lower than the secondary immune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CTIVE VS. PASSIVE IMMUNIT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e can temporarily acquir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entury Schoolbook"/>
              </a:rPr>
              <a:t>passive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immunit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y receiving “premade” antibodi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e.g. Breast fed babies; fetus receives Ab from Mother’s blood; Ab for a poisonous snake bit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fection or vaccination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rigger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active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immunit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Web 24B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5" descr="_x001b_24_04SmallpoxVaccine_UP.jpg                                    0051883F_x0003_203                            BE6DF1D0:"/>
          <p:cNvPicPr/>
          <p:nvPr/>
        </p:nvPicPr>
        <p:blipFill>
          <a:blip r:embed="rId2"/>
          <a:stretch/>
        </p:blipFill>
        <p:spPr>
          <a:xfrm>
            <a:off x="3457440" y="3862440"/>
            <a:ext cx="4222800" cy="261936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6"/>
          <p:cNvSpPr/>
          <p:nvPr/>
        </p:nvSpPr>
        <p:spPr>
          <a:xfrm>
            <a:off x="1332000" y="613404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4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04920" y="685440"/>
            <a:ext cx="8534160" cy="19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74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24.5 Lymphocytes mount a dual defense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36400" indent="-327960">
              <a:spcBef>
                <a:spcPts val="711"/>
              </a:spcBef>
              <a:buClr>
                <a:srgbClr val="fe863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Schoolbook"/>
              </a:rPr>
              <a:t>Two kinds of lymphocytes carry out the immune response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778040" indent="-522360">
              <a:lnSpc>
                <a:spcPct val="80000"/>
              </a:lnSpc>
              <a:spcBef>
                <a:spcPts val="711"/>
              </a:spcBef>
              <a:buClr>
                <a:srgbClr val="5194ff"/>
              </a:buClr>
              <a:buSzPct val="60000"/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Schoolbook"/>
              </a:rPr>
              <a:t>B cells secrete antibodies that attack antigens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778040" indent="-522360">
              <a:lnSpc>
                <a:spcPct val="80000"/>
              </a:lnSpc>
              <a:spcBef>
                <a:spcPts val="711"/>
              </a:spcBef>
              <a:buClr>
                <a:srgbClr val="5194ff"/>
              </a:buClr>
              <a:buSzPct val="60000"/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Schoolbook"/>
              </a:rPr>
              <a:t>T cells attack cells infected with pathogens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31"/>
          <p:cNvGrpSpPr/>
          <p:nvPr/>
        </p:nvGrpSpPr>
        <p:grpSpPr>
          <a:xfrm>
            <a:off x="3017880" y="2631960"/>
            <a:ext cx="3095640" cy="3832200"/>
            <a:chOff x="3017880" y="2631960"/>
            <a:chExt cx="3095640" cy="3832200"/>
          </a:xfrm>
        </p:grpSpPr>
        <p:pic>
          <p:nvPicPr>
            <p:cNvPr id="518" name="Picture 7" descr="_x001c_24_05aTandBcellDevelop_U.jpg                                   0051883F_x0003_203                            BE6DF1D0:"/>
            <p:cNvPicPr/>
            <p:nvPr/>
          </p:nvPicPr>
          <p:blipFill>
            <a:blip r:embed="rId1"/>
            <a:stretch/>
          </p:blipFill>
          <p:spPr>
            <a:xfrm>
              <a:off x="3274920" y="2741760"/>
              <a:ext cx="2398680" cy="37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Text Box 8"/>
            <p:cNvSpPr/>
            <p:nvPr/>
          </p:nvSpPr>
          <p:spPr>
            <a:xfrm>
              <a:off x="3433680" y="2631960"/>
              <a:ext cx="974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Bone marr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9"/>
            <p:cNvSpPr/>
            <p:nvPr/>
          </p:nvSpPr>
          <p:spPr>
            <a:xfrm>
              <a:off x="4718160" y="2631960"/>
              <a:ext cx="968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Thymu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10"/>
            <p:cNvSpPr/>
            <p:nvPr/>
          </p:nvSpPr>
          <p:spPr>
            <a:xfrm>
              <a:off x="3654360" y="3335400"/>
              <a:ext cx="733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em cel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11"/>
            <p:cNvSpPr/>
            <p:nvPr/>
          </p:nvSpPr>
          <p:spPr>
            <a:xfrm>
              <a:off x="3281400" y="3946680"/>
              <a:ext cx="13129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mmature lymphocyt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12"/>
            <p:cNvSpPr/>
            <p:nvPr/>
          </p:nvSpPr>
          <p:spPr>
            <a:xfrm>
              <a:off x="3498840" y="4903920"/>
              <a:ext cx="527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 cel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13"/>
            <p:cNvSpPr/>
            <p:nvPr/>
          </p:nvSpPr>
          <p:spPr>
            <a:xfrm>
              <a:off x="3564000" y="5021280"/>
              <a:ext cx="71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Humoral immunit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14"/>
            <p:cNvSpPr/>
            <p:nvPr/>
          </p:nvSpPr>
          <p:spPr>
            <a:xfrm>
              <a:off x="4368960" y="3519360"/>
              <a:ext cx="51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ia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loo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15"/>
            <p:cNvSpPr/>
            <p:nvPr/>
          </p:nvSpPr>
          <p:spPr>
            <a:xfrm>
              <a:off x="4211640" y="4421160"/>
              <a:ext cx="189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16"/>
            <p:cNvSpPr/>
            <p:nvPr/>
          </p:nvSpPr>
          <p:spPr>
            <a:xfrm flipH="1">
              <a:off x="4833720" y="4419720"/>
              <a:ext cx="487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17"/>
            <p:cNvSpPr/>
            <p:nvPr/>
          </p:nvSpPr>
          <p:spPr>
            <a:xfrm>
              <a:off x="4284720" y="4265640"/>
              <a:ext cx="68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tige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cepto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18"/>
            <p:cNvSpPr/>
            <p:nvPr/>
          </p:nvSpPr>
          <p:spPr>
            <a:xfrm>
              <a:off x="4240080" y="525924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ia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loo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19"/>
            <p:cNvSpPr/>
            <p:nvPr/>
          </p:nvSpPr>
          <p:spPr>
            <a:xfrm>
              <a:off x="4948200" y="4898880"/>
              <a:ext cx="509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 cel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20"/>
            <p:cNvSpPr/>
            <p:nvPr/>
          </p:nvSpPr>
          <p:spPr>
            <a:xfrm>
              <a:off x="4753080" y="5016600"/>
              <a:ext cx="92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ell-mediated immunit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 Box 21"/>
            <p:cNvSpPr/>
            <p:nvPr/>
          </p:nvSpPr>
          <p:spPr>
            <a:xfrm>
              <a:off x="3879720" y="5535720"/>
              <a:ext cx="129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ymph nodes, spleen, and other lymphatic organ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22"/>
            <p:cNvSpPr/>
            <p:nvPr/>
          </p:nvSpPr>
          <p:spPr>
            <a:xfrm>
              <a:off x="5133960" y="5808600"/>
              <a:ext cx="97956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inal maturation of B and T cells in lymphatic orga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3"/>
            <p:cNvSpPr/>
            <p:nvPr/>
          </p:nvSpPr>
          <p:spPr>
            <a:xfrm>
              <a:off x="4562640" y="5908680"/>
              <a:ext cx="630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24"/>
            <p:cNvSpPr/>
            <p:nvPr/>
          </p:nvSpPr>
          <p:spPr>
            <a:xfrm>
              <a:off x="3017880" y="5800680"/>
              <a:ext cx="10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Other parts of the lymphatic syste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Text Box 25"/>
          <p:cNvSpPr/>
          <p:nvPr/>
        </p:nvSpPr>
        <p:spPr>
          <a:xfrm>
            <a:off x="1312920" y="613404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4.5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04920" y="685800"/>
            <a:ext cx="8534160" cy="20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illions of kinds of B cells and T cells, each with different membrane receptor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Wait in the lymphatic system, where they may respond to invader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7" descr="_x0012_24_05bTcell_UP.jpg                                             0051883F_x0003_203                            BE6DF1D0:"/>
          <p:cNvPicPr/>
          <p:nvPr/>
        </p:nvPicPr>
        <p:blipFill>
          <a:blip r:embed="rId1"/>
          <a:stretch/>
        </p:blipFill>
        <p:spPr>
          <a:xfrm>
            <a:off x="2887560" y="2741760"/>
            <a:ext cx="4181400" cy="370980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49"/>
          <p:cNvSpPr/>
          <p:nvPr/>
        </p:nvSpPr>
        <p:spPr>
          <a:xfrm>
            <a:off x="1319400" y="613404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4.5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51"/>
          <p:cNvSpPr/>
          <p:nvPr/>
        </p:nvSpPr>
        <p:spPr>
          <a:xfrm rot="16090200">
            <a:off x="6183000" y="5438520"/>
            <a:ext cx="173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ized TEM 4,500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304920" y="685440"/>
            <a:ext cx="8534160" cy="27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4.6 Antigens have specific regions where antibodies bind to the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ntigenic determinant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re the specific regions on an antigen to which antibodies bin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30"/>
          <p:cNvGrpSpPr/>
          <p:nvPr/>
        </p:nvGrpSpPr>
        <p:grpSpPr>
          <a:xfrm>
            <a:off x="2900520" y="3359160"/>
            <a:ext cx="3844800" cy="2900520"/>
            <a:chOff x="2900520" y="3359160"/>
            <a:chExt cx="3844800" cy="2900520"/>
          </a:xfrm>
        </p:grpSpPr>
        <p:pic>
          <p:nvPicPr>
            <p:cNvPr id="545" name="Picture 18" descr="_x001f_24_06AntigenicDeterminant_U.jpg                                0051883F_x0003_203                            BE6DF1D0:"/>
            <p:cNvPicPr/>
            <p:nvPr/>
          </p:nvPicPr>
          <p:blipFill>
            <a:blip r:embed="rId1"/>
            <a:stretch/>
          </p:blipFill>
          <p:spPr>
            <a:xfrm>
              <a:off x="2900520" y="3457440"/>
              <a:ext cx="3838320" cy="280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Line 19"/>
            <p:cNvSpPr/>
            <p:nvPr/>
          </p:nvSpPr>
          <p:spPr>
            <a:xfrm flipV="1">
              <a:off x="3573360" y="3693960"/>
              <a:ext cx="398520" cy="57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0"/>
            <p:cNvSpPr/>
            <p:nvPr/>
          </p:nvSpPr>
          <p:spPr>
            <a:xfrm flipH="1" flipV="1">
              <a:off x="3967200" y="3695400"/>
              <a:ext cx="714240" cy="19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21"/>
            <p:cNvSpPr/>
            <p:nvPr/>
          </p:nvSpPr>
          <p:spPr>
            <a:xfrm>
              <a:off x="3459240" y="3359160"/>
              <a:ext cx="9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ntibody A molecul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22"/>
            <p:cNvSpPr/>
            <p:nvPr/>
          </p:nvSpPr>
          <p:spPr>
            <a:xfrm>
              <a:off x="5788080" y="3760920"/>
              <a:ext cx="9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ntigen-binding sit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3"/>
            <p:cNvSpPr/>
            <p:nvPr/>
          </p:nvSpPr>
          <p:spPr>
            <a:xfrm>
              <a:off x="5369040" y="3639960"/>
              <a:ext cx="473040" cy="30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4"/>
            <p:cNvSpPr/>
            <p:nvPr/>
          </p:nvSpPr>
          <p:spPr>
            <a:xfrm flipV="1">
              <a:off x="5327640" y="3938400"/>
              <a:ext cx="517680" cy="28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25"/>
            <p:cNvSpPr/>
            <p:nvPr/>
          </p:nvSpPr>
          <p:spPr>
            <a:xfrm>
              <a:off x="3906720" y="5083200"/>
              <a:ext cx="94788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998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_x001d__x001d__x001d_Antigen molecu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26"/>
            <p:cNvSpPr/>
            <p:nvPr/>
          </p:nvSpPr>
          <p:spPr>
            <a:xfrm>
              <a:off x="5643720" y="4664160"/>
              <a:ext cx="92376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998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_x001d__x001d__x001d_Antigenic determina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27"/>
            <p:cNvSpPr/>
            <p:nvPr/>
          </p:nvSpPr>
          <p:spPr>
            <a:xfrm>
              <a:off x="3436920" y="5904000"/>
              <a:ext cx="114156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998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ntibody B molecu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28"/>
            <p:cNvSpPr/>
            <p:nvPr/>
          </p:nvSpPr>
          <p:spPr>
            <a:xfrm>
              <a:off x="3241800" y="5829480"/>
              <a:ext cx="425160" cy="156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Text Box 29"/>
          <p:cNvSpPr/>
          <p:nvPr/>
        </p:nvSpPr>
        <p:spPr>
          <a:xfrm>
            <a:off x="1319400" y="612144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4.7 Clonal selection musters defensive forces against specific antige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83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hen an antigen enters the bod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92160" indent="-5713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t activates only a small subset of lymphocytes with complementary receptor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04920" y="685800"/>
            <a:ext cx="853416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41112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selected lymphocyte cells multiply into clones of short-lived effector cell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59040" indent="-533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pecialized for defending against the antigen that triggered the response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04920" y="685440"/>
            <a:ext cx="8534160" cy="24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 AIDS Upro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cquired immune deficiency syndrome (AIDS)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 epidemic throughout much of the worl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ousands of people are infected every da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16" descr="_x0019_24_UN485AIDSRecord_UP.jpg                                      0051883F_x0003_203                            BE77EE71:"/>
          <p:cNvPicPr/>
          <p:nvPr/>
        </p:nvPicPr>
        <p:blipFill>
          <a:blip r:embed="rId1"/>
          <a:stretch/>
        </p:blipFill>
        <p:spPr>
          <a:xfrm>
            <a:off x="3276720" y="3098880"/>
            <a:ext cx="2614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04920" y="685800"/>
            <a:ext cx="8534160" cy="52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The Steps of Clonal Sele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 the primary immune response, clonal selection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roduces effector cells and memory cells that may confer lifelong immunit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 the secondary immune respons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emory cells are activated by a second exposure to the same antigen, which initiates a faster and more massive respons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primary and secondary immune respons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1" descr="_x001f_24_07aClonalSelectBcell_4_U.jpg                                0051883F_x0003_203                            BE6D5DC8:"/>
          <p:cNvPicPr/>
          <p:nvPr/>
        </p:nvPicPr>
        <p:blipFill>
          <a:blip r:embed="rId1"/>
          <a:stretch/>
        </p:blipFill>
        <p:spPr>
          <a:xfrm>
            <a:off x="2666880" y="1371600"/>
            <a:ext cx="5305680" cy="514368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13"/>
          <p:cNvSpPr/>
          <p:nvPr/>
        </p:nvSpPr>
        <p:spPr>
          <a:xfrm>
            <a:off x="2774520" y="1549800"/>
            <a:ext cx="8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rimary immune</a:t>
            </a:r>
            <a:br>
              <a:rPr sz="700"/>
            </a:b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4"/>
          <p:cNvSpPr/>
          <p:nvPr/>
        </p:nvSpPr>
        <p:spPr>
          <a:xfrm>
            <a:off x="2772360" y="1986480"/>
            <a:ext cx="9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 cells with different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5"/>
          <p:cNvSpPr/>
          <p:nvPr/>
        </p:nvSpPr>
        <p:spPr>
          <a:xfrm>
            <a:off x="2777400" y="2726280"/>
            <a:ext cx="8787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ell activation: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rowth, division,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nd differenti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16"/>
          <p:cNvSpPr/>
          <p:nvPr/>
        </p:nvSpPr>
        <p:spPr>
          <a:xfrm flipV="1">
            <a:off x="4130640" y="3060720"/>
            <a:ext cx="39600" cy="18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7"/>
          <p:cNvSpPr/>
          <p:nvPr/>
        </p:nvSpPr>
        <p:spPr>
          <a:xfrm flipH="1" flipV="1">
            <a:off x="4165560" y="3055680"/>
            <a:ext cx="25704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8"/>
          <p:cNvSpPr/>
          <p:nvPr/>
        </p:nvSpPr>
        <p:spPr>
          <a:xfrm>
            <a:off x="3893760" y="2797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ntibody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9"/>
          <p:cNvSpPr/>
          <p:nvPr/>
        </p:nvSpPr>
        <p:spPr>
          <a:xfrm>
            <a:off x="3664080" y="4170960"/>
            <a:ext cx="1857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lasma (effector) cells secreting antibodi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20"/>
          <p:cNvSpPr/>
          <p:nvPr/>
        </p:nvSpPr>
        <p:spPr>
          <a:xfrm>
            <a:off x="4923000" y="3666960"/>
            <a:ext cx="399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21"/>
          <p:cNvSpPr/>
          <p:nvPr/>
        </p:nvSpPr>
        <p:spPr>
          <a:xfrm>
            <a:off x="5292000" y="3559680"/>
            <a:ext cx="6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ndoplasmic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22"/>
          <p:cNvSpPr/>
          <p:nvPr/>
        </p:nvSpPr>
        <p:spPr>
          <a:xfrm>
            <a:off x="6672600" y="4169520"/>
            <a:ext cx="1075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one of memory cell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4"/>
          <p:cNvSpPr/>
          <p:nvPr/>
        </p:nvSpPr>
        <p:spPr>
          <a:xfrm>
            <a:off x="4534560" y="1610280"/>
            <a:ext cx="82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ntigen receptor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antibody on cell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rface)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25"/>
          <p:cNvSpPr/>
          <p:nvPr/>
        </p:nvSpPr>
        <p:spPr>
          <a:xfrm flipV="1">
            <a:off x="4414680" y="1719360"/>
            <a:ext cx="174960" cy="5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6"/>
          <p:cNvSpPr/>
          <p:nvPr/>
        </p:nvSpPr>
        <p:spPr>
          <a:xfrm>
            <a:off x="6099120" y="1565640"/>
            <a:ext cx="60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ntigen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lecule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27"/>
          <p:cNvSpPr/>
          <p:nvPr/>
        </p:nvSpPr>
        <p:spPr>
          <a:xfrm>
            <a:off x="5815080" y="1576440"/>
            <a:ext cx="32220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28"/>
          <p:cNvSpPr/>
          <p:nvPr/>
        </p:nvSpPr>
        <p:spPr>
          <a:xfrm flipV="1">
            <a:off x="5934240" y="1674720"/>
            <a:ext cx="187200" cy="2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29"/>
          <p:cNvSpPr/>
          <p:nvPr/>
        </p:nvSpPr>
        <p:spPr>
          <a:xfrm>
            <a:off x="5459760" y="152604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Group 51"/>
          <p:cNvGrpSpPr/>
          <p:nvPr/>
        </p:nvGrpSpPr>
        <p:grpSpPr>
          <a:xfrm>
            <a:off x="5745600" y="2273760"/>
            <a:ext cx="857880" cy="307080"/>
            <a:chOff x="5745600" y="2273760"/>
            <a:chExt cx="857880" cy="307080"/>
          </a:xfrm>
        </p:grpSpPr>
        <p:sp>
          <p:nvSpPr>
            <p:cNvPr id="583" name="Text Box 23"/>
            <p:cNvSpPr/>
            <p:nvPr/>
          </p:nvSpPr>
          <p:spPr>
            <a:xfrm>
              <a:off x="5866560" y="22737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irst exposure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tigen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30"/>
            <p:cNvSpPr/>
            <p:nvPr/>
          </p:nvSpPr>
          <p:spPr>
            <a:xfrm>
              <a:off x="5745600" y="228492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Text Box 31"/>
          <p:cNvSpPr/>
          <p:nvPr/>
        </p:nvSpPr>
        <p:spPr>
          <a:xfrm>
            <a:off x="4929480" y="312624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32"/>
          <p:cNvSpPr/>
          <p:nvPr/>
        </p:nvSpPr>
        <p:spPr>
          <a:xfrm>
            <a:off x="3733920" y="159120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33"/>
          <p:cNvSpPr/>
          <p:nvPr/>
        </p:nvSpPr>
        <p:spPr>
          <a:xfrm>
            <a:off x="6600960" y="332172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34"/>
          <p:cNvSpPr/>
          <p:nvPr/>
        </p:nvSpPr>
        <p:spPr>
          <a:xfrm>
            <a:off x="6432840" y="315324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36"/>
          <p:cNvSpPr/>
          <p:nvPr/>
        </p:nvSpPr>
        <p:spPr>
          <a:xfrm flipH="1">
            <a:off x="6354360" y="4414680"/>
            <a:ext cx="268200" cy="8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37"/>
          <p:cNvSpPr/>
          <p:nvPr/>
        </p:nvSpPr>
        <p:spPr>
          <a:xfrm flipH="1" flipV="1">
            <a:off x="6361200" y="4503600"/>
            <a:ext cx="171360" cy="5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38"/>
          <p:cNvSpPr/>
          <p:nvPr/>
        </p:nvSpPr>
        <p:spPr>
          <a:xfrm>
            <a:off x="5828760" y="42980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ntigen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52"/>
          <p:cNvGrpSpPr/>
          <p:nvPr/>
        </p:nvGrpSpPr>
        <p:grpSpPr>
          <a:xfrm>
            <a:off x="5912280" y="4548600"/>
            <a:ext cx="977400" cy="307080"/>
            <a:chOff x="5912280" y="4548600"/>
            <a:chExt cx="977400" cy="307080"/>
          </a:xfrm>
        </p:grpSpPr>
        <p:sp>
          <p:nvSpPr>
            <p:cNvPr id="593" name="Text Box 35"/>
            <p:cNvSpPr/>
            <p:nvPr/>
          </p:nvSpPr>
          <p:spPr>
            <a:xfrm>
              <a:off x="5912280" y="455364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39"/>
            <p:cNvSpPr/>
            <p:nvPr/>
          </p:nvSpPr>
          <p:spPr>
            <a:xfrm>
              <a:off x="6024600" y="454860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econd exposure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o same antige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Text Box 40"/>
          <p:cNvSpPr/>
          <p:nvPr/>
        </p:nvSpPr>
        <p:spPr>
          <a:xfrm>
            <a:off x="3654000" y="51454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ntibody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41"/>
          <p:cNvSpPr/>
          <p:nvPr/>
        </p:nvSpPr>
        <p:spPr>
          <a:xfrm flipH="1" flipV="1">
            <a:off x="3916440" y="5408280"/>
            <a:ext cx="3024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42"/>
          <p:cNvSpPr/>
          <p:nvPr/>
        </p:nvSpPr>
        <p:spPr>
          <a:xfrm flipH="1" flipV="1">
            <a:off x="3911400" y="5412960"/>
            <a:ext cx="185400" cy="63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43"/>
          <p:cNvSpPr/>
          <p:nvPr/>
        </p:nvSpPr>
        <p:spPr>
          <a:xfrm flipV="1">
            <a:off x="5443560" y="5448240"/>
            <a:ext cx="183960" cy="230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4"/>
          <p:cNvSpPr/>
          <p:nvPr/>
        </p:nvSpPr>
        <p:spPr>
          <a:xfrm>
            <a:off x="5523840" y="5161320"/>
            <a:ext cx="6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ndoplasmic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45"/>
          <p:cNvSpPr/>
          <p:nvPr/>
        </p:nvSpPr>
        <p:spPr>
          <a:xfrm>
            <a:off x="3951360" y="6182280"/>
            <a:ext cx="1857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lasma (effector) cells secreting antibodi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46"/>
          <p:cNvSpPr/>
          <p:nvPr/>
        </p:nvSpPr>
        <p:spPr>
          <a:xfrm>
            <a:off x="6517080" y="6175800"/>
            <a:ext cx="1075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one of memory cell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47"/>
          <p:cNvSpPr/>
          <p:nvPr/>
        </p:nvSpPr>
        <p:spPr>
          <a:xfrm>
            <a:off x="2775240" y="515520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econdary immune</a:t>
            </a:r>
            <a:br>
              <a:rPr sz="700"/>
            </a:b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48"/>
          <p:cNvSpPr/>
          <p:nvPr/>
        </p:nvSpPr>
        <p:spPr>
          <a:xfrm>
            <a:off x="1332000" y="612144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4.7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304920" y="685800"/>
            <a:ext cx="8534160" cy="21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4.8 Antibodies are the weapons of humoral immuni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8320" indent="-411120">
              <a:spcBef>
                <a:spcPts val="814"/>
              </a:spcBef>
              <a:buClr>
                <a:srgbClr val="fe863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Antibody molecules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97200" indent="-576360">
              <a:spcBef>
                <a:spcPts val="814"/>
              </a:spcBef>
              <a:buClr>
                <a:srgbClr val="5194ff"/>
              </a:buClr>
              <a:buSzPct val="60000"/>
              <a:buFont typeface="Wingdings 2" charset="2"/>
              <a:buChar char="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Are secreted by plasma (effector) B cells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20"/>
          <p:cNvSpPr/>
          <p:nvPr/>
        </p:nvSpPr>
        <p:spPr>
          <a:xfrm>
            <a:off x="1319400" y="598176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4.8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22" descr="_x0015_24_08aAntibody_UP.jpg                                          0051883F_x0003_203                            BE6DF1D0:"/>
          <p:cNvPicPr/>
          <p:nvPr/>
        </p:nvPicPr>
        <p:blipFill>
          <a:blip r:embed="rId1"/>
          <a:stretch/>
        </p:blipFill>
        <p:spPr>
          <a:xfrm>
            <a:off x="2908440" y="2874960"/>
            <a:ext cx="479088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304920" y="685440"/>
            <a:ext cx="8534160" cy="19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lnSpc>
                <a:spcPct val="8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n antibody molecule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lnSpc>
                <a:spcPct val="9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Has antigen-binding sites specific to the antigenic determinants that elicited its secre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31"/>
          <p:cNvSpPr/>
          <p:nvPr/>
        </p:nvSpPr>
        <p:spPr>
          <a:xfrm>
            <a:off x="1332000" y="609588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4.8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37"/>
          <p:cNvGrpSpPr/>
          <p:nvPr/>
        </p:nvGrpSpPr>
        <p:grpSpPr>
          <a:xfrm>
            <a:off x="2520720" y="2550960"/>
            <a:ext cx="4121280" cy="3873600"/>
            <a:chOff x="2520720" y="2550960"/>
            <a:chExt cx="4121280" cy="3873600"/>
          </a:xfrm>
        </p:grpSpPr>
        <p:pic>
          <p:nvPicPr>
            <p:cNvPr id="612" name="Picture 6" descr="_x001d_24_08bAntibodyStructure_U.jpg                                  0051883F_x0003_203                            BE6DF1D0:"/>
            <p:cNvPicPr/>
            <p:nvPr/>
          </p:nvPicPr>
          <p:blipFill>
            <a:blip r:embed="rId1"/>
            <a:stretch/>
          </p:blipFill>
          <p:spPr>
            <a:xfrm>
              <a:off x="2548080" y="2851200"/>
              <a:ext cx="3998880" cy="35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Line 7"/>
            <p:cNvSpPr/>
            <p:nvPr/>
          </p:nvSpPr>
          <p:spPr>
            <a:xfrm>
              <a:off x="5621400" y="4359240"/>
              <a:ext cx="407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8"/>
            <p:cNvSpPr/>
            <p:nvPr/>
          </p:nvSpPr>
          <p:spPr>
            <a:xfrm>
              <a:off x="6029280" y="4189320"/>
              <a:ext cx="61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ght ch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 Box 9"/>
            <p:cNvSpPr/>
            <p:nvPr/>
          </p:nvSpPr>
          <p:spPr>
            <a:xfrm>
              <a:off x="5167440" y="5423040"/>
              <a:ext cx="614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avy ch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10"/>
            <p:cNvSpPr/>
            <p:nvPr/>
          </p:nvSpPr>
          <p:spPr>
            <a:xfrm>
              <a:off x="4876920" y="5610240"/>
              <a:ext cx="274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11"/>
            <p:cNvSpPr/>
            <p:nvPr/>
          </p:nvSpPr>
          <p:spPr>
            <a:xfrm>
              <a:off x="4761000" y="5281560"/>
              <a:ext cx="23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12"/>
            <p:cNvSpPr/>
            <p:nvPr/>
          </p:nvSpPr>
          <p:spPr>
            <a:xfrm rot="18955800">
              <a:off x="5418000" y="4068360"/>
              <a:ext cx="23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3"/>
            <p:cNvSpPr/>
            <p:nvPr/>
          </p:nvSpPr>
          <p:spPr>
            <a:xfrm flipH="1">
              <a:off x="2520720" y="2851200"/>
              <a:ext cx="561960" cy="511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4"/>
            <p:cNvSpPr/>
            <p:nvPr/>
          </p:nvSpPr>
          <p:spPr>
            <a:xfrm>
              <a:off x="2521080" y="3357720"/>
              <a:ext cx="163440" cy="141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5"/>
            <p:cNvSpPr/>
            <p:nvPr/>
          </p:nvSpPr>
          <p:spPr>
            <a:xfrm>
              <a:off x="3073320" y="2843280"/>
              <a:ext cx="150840" cy="15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18"/>
            <p:cNvSpPr/>
            <p:nvPr/>
          </p:nvSpPr>
          <p:spPr>
            <a:xfrm flipV="1">
              <a:off x="5856120" y="2909520"/>
              <a:ext cx="184320" cy="11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19"/>
            <p:cNvSpPr/>
            <p:nvPr/>
          </p:nvSpPr>
          <p:spPr>
            <a:xfrm flipV="1">
              <a:off x="6299280" y="3384720"/>
              <a:ext cx="166680" cy="117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20"/>
            <p:cNvSpPr/>
            <p:nvPr/>
          </p:nvSpPr>
          <p:spPr>
            <a:xfrm>
              <a:off x="6035760" y="2909880"/>
              <a:ext cx="431640" cy="479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22"/>
            <p:cNvSpPr/>
            <p:nvPr/>
          </p:nvSpPr>
          <p:spPr>
            <a:xfrm rot="19076400">
              <a:off x="5854680" y="3622320"/>
              <a:ext cx="30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23"/>
            <p:cNvSpPr/>
            <p:nvPr/>
          </p:nvSpPr>
          <p:spPr>
            <a:xfrm rot="19076400">
              <a:off x="5437080" y="3271320"/>
              <a:ext cx="30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 Box 24"/>
            <p:cNvSpPr/>
            <p:nvPr/>
          </p:nvSpPr>
          <p:spPr>
            <a:xfrm rot="2660400">
              <a:off x="3239640" y="3134880"/>
              <a:ext cx="30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25"/>
            <p:cNvSpPr/>
            <p:nvPr/>
          </p:nvSpPr>
          <p:spPr>
            <a:xfrm rot="2526600">
              <a:off x="3401280" y="402084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26"/>
            <p:cNvSpPr/>
            <p:nvPr/>
          </p:nvSpPr>
          <p:spPr>
            <a:xfrm rot="2723400">
              <a:off x="2872080" y="3532680"/>
              <a:ext cx="30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27"/>
            <p:cNvSpPr/>
            <p:nvPr/>
          </p:nvSpPr>
          <p:spPr>
            <a:xfrm>
              <a:off x="4202280" y="5281560"/>
              <a:ext cx="23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28"/>
            <p:cNvSpPr/>
            <p:nvPr/>
          </p:nvSpPr>
          <p:spPr>
            <a:xfrm>
              <a:off x="3987720" y="2575080"/>
              <a:ext cx="1117800" cy="241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29"/>
            <p:cNvSpPr/>
            <p:nvPr/>
          </p:nvSpPr>
          <p:spPr>
            <a:xfrm>
              <a:off x="3895560" y="2550960"/>
              <a:ext cx="1298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tigen-binding si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35"/>
            <p:cNvSpPr/>
            <p:nvPr/>
          </p:nvSpPr>
          <p:spPr>
            <a:xfrm>
              <a:off x="2768760" y="2682720"/>
              <a:ext cx="1209600" cy="466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466920"/>
                <a:gd name="textAreaBottom" fmla="*/ 467280 h 466920"/>
              </a:gdLst>
              <a:ahLst/>
              <a:rect l="textAreaLeft" t="textAreaTop" r="textAreaRight" b="textAreaBottom"/>
              <a:pathLst>
                <a:path w="762" h="294">
                  <a:moveTo>
                    <a:pt x="0" y="294"/>
                  </a:moveTo>
                  <a:lnTo>
                    <a:pt x="0" y="0"/>
                  </a:lnTo>
                  <a:lnTo>
                    <a:pt x="762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36"/>
            <p:cNvSpPr/>
            <p:nvPr/>
          </p:nvSpPr>
          <p:spPr>
            <a:xfrm>
              <a:off x="5114880" y="2687760"/>
              <a:ext cx="1189080" cy="522000"/>
            </a:xfrm>
            <a:custGeom>
              <a:avLst/>
              <a:gdLst>
                <a:gd name="textAreaLeft" fmla="*/ 0 w 1189080"/>
                <a:gd name="textAreaRight" fmla="*/ 1189080 w 1189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749" h="329">
                  <a:moveTo>
                    <a:pt x="0" y="0"/>
                  </a:moveTo>
                  <a:lnTo>
                    <a:pt x="749" y="0"/>
                  </a:lnTo>
                  <a:lnTo>
                    <a:pt x="749" y="329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58"/>
          <p:cNvGrpSpPr/>
          <p:nvPr/>
        </p:nvGrpSpPr>
        <p:grpSpPr>
          <a:xfrm>
            <a:off x="1603440" y="2359080"/>
            <a:ext cx="6062760" cy="4127400"/>
            <a:chOff x="1603440" y="2359080"/>
            <a:chExt cx="6062760" cy="4127400"/>
          </a:xfrm>
        </p:grpSpPr>
        <p:pic>
          <p:nvPicPr>
            <p:cNvPr id="636" name="Picture 27" descr="_x001a_24_09HumoralImmunity_U.jpg                                     0051883F_x0003_203                            BE6DF1D0:"/>
            <p:cNvPicPr/>
            <p:nvPr/>
          </p:nvPicPr>
          <p:blipFill>
            <a:blip r:embed="rId1"/>
            <a:stretch/>
          </p:blipFill>
          <p:spPr>
            <a:xfrm>
              <a:off x="1603440" y="2359080"/>
              <a:ext cx="5972040" cy="4127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7" name="Group 57"/>
            <p:cNvGrpSpPr/>
            <p:nvPr/>
          </p:nvGrpSpPr>
          <p:grpSpPr>
            <a:xfrm>
              <a:off x="1717560" y="2475000"/>
              <a:ext cx="5948640" cy="3892320"/>
              <a:chOff x="1717560" y="2475000"/>
              <a:chExt cx="5948640" cy="3892320"/>
            </a:xfrm>
          </p:grpSpPr>
          <p:sp>
            <p:nvSpPr>
              <p:cNvPr id="638" name="Text Box 28"/>
              <p:cNvSpPr/>
              <p:nvPr/>
            </p:nvSpPr>
            <p:spPr>
              <a:xfrm>
                <a:off x="3676680" y="2475000"/>
                <a:ext cx="185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Binding of antibodies to antigens inactivates antigens b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Text Box 29"/>
              <p:cNvSpPr/>
              <p:nvPr/>
            </p:nvSpPr>
            <p:spPr>
              <a:xfrm>
                <a:off x="1717560" y="3036960"/>
                <a:ext cx="1365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Neutralizat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(blocks viral binding sites; coats bacteria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Text Box 30"/>
              <p:cNvSpPr/>
              <p:nvPr/>
            </p:nvSpPr>
            <p:spPr>
              <a:xfrm>
                <a:off x="3213000" y="3166920"/>
                <a:ext cx="1255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gglutination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of microb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Text Box 31"/>
              <p:cNvSpPr/>
              <p:nvPr/>
            </p:nvSpPr>
            <p:spPr>
              <a:xfrm>
                <a:off x="4694400" y="3170160"/>
                <a:ext cx="1255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Precipitation of dissolved antigen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Text Box 32"/>
              <p:cNvSpPr/>
              <p:nvPr/>
            </p:nvSpPr>
            <p:spPr>
              <a:xfrm>
                <a:off x="6167520" y="3170160"/>
                <a:ext cx="1257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ctivation of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Complement syste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Text Box 33"/>
              <p:cNvSpPr/>
              <p:nvPr/>
            </p:nvSpPr>
            <p:spPr>
              <a:xfrm>
                <a:off x="5911920" y="5132520"/>
                <a:ext cx="15159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Cell Iysi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Text Box 34"/>
              <p:cNvSpPr/>
              <p:nvPr/>
            </p:nvSpPr>
            <p:spPr>
              <a:xfrm>
                <a:off x="3071880" y="5145120"/>
                <a:ext cx="1517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Phagocytosi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Line 35"/>
              <p:cNvSpPr/>
              <p:nvPr/>
            </p:nvSpPr>
            <p:spPr>
              <a:xfrm flipV="1">
                <a:off x="2171880" y="3731760"/>
                <a:ext cx="193320" cy="171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Text Box 36"/>
              <p:cNvSpPr/>
              <p:nvPr/>
            </p:nvSpPr>
            <p:spPr>
              <a:xfrm>
                <a:off x="2322360" y="3616200"/>
                <a:ext cx="420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iru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Line 37"/>
              <p:cNvSpPr/>
              <p:nvPr/>
            </p:nvSpPr>
            <p:spPr>
              <a:xfrm flipH="1">
                <a:off x="2343240" y="4335480"/>
                <a:ext cx="163440" cy="8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Text Box 38"/>
              <p:cNvSpPr/>
              <p:nvPr/>
            </p:nvSpPr>
            <p:spPr>
              <a:xfrm>
                <a:off x="1768320" y="4327560"/>
                <a:ext cx="773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acteriu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Line 39"/>
              <p:cNvSpPr/>
              <p:nvPr/>
            </p:nvSpPr>
            <p:spPr>
              <a:xfrm flipV="1">
                <a:off x="3876840" y="3757320"/>
                <a:ext cx="23796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Line 40"/>
              <p:cNvSpPr/>
              <p:nvPr/>
            </p:nvSpPr>
            <p:spPr>
              <a:xfrm flipV="1">
                <a:off x="4035600" y="3751200"/>
                <a:ext cx="7920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Text Box 41"/>
              <p:cNvSpPr/>
              <p:nvPr/>
            </p:nvSpPr>
            <p:spPr>
              <a:xfrm>
                <a:off x="3997440" y="3586320"/>
                <a:ext cx="603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acteri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Line 42"/>
              <p:cNvSpPr/>
              <p:nvPr/>
            </p:nvSpPr>
            <p:spPr>
              <a:xfrm>
                <a:off x="5473800" y="4062240"/>
                <a:ext cx="122040" cy="171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Line 43"/>
              <p:cNvSpPr/>
              <p:nvPr/>
            </p:nvSpPr>
            <p:spPr>
              <a:xfrm>
                <a:off x="5564160" y="3886200"/>
                <a:ext cx="3672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Text Box 44"/>
              <p:cNvSpPr/>
              <p:nvPr/>
            </p:nvSpPr>
            <p:spPr>
              <a:xfrm>
                <a:off x="5327640" y="4233960"/>
                <a:ext cx="69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ntigen molecul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45"/>
              <p:cNvSpPr/>
              <p:nvPr/>
            </p:nvSpPr>
            <p:spPr>
              <a:xfrm flipV="1">
                <a:off x="6759720" y="3634920"/>
                <a:ext cx="12672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Text Box 46"/>
              <p:cNvSpPr/>
              <p:nvPr/>
            </p:nvSpPr>
            <p:spPr>
              <a:xfrm>
                <a:off x="6727680" y="3463920"/>
                <a:ext cx="79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plement molecul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Text Box 47"/>
              <p:cNvSpPr/>
              <p:nvPr/>
            </p:nvSpPr>
            <p:spPr>
              <a:xfrm>
                <a:off x="6081840" y="4414680"/>
                <a:ext cx="825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oreign cel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Text Box 50"/>
              <p:cNvSpPr/>
              <p:nvPr/>
            </p:nvSpPr>
            <p:spPr>
              <a:xfrm>
                <a:off x="6970680" y="4425840"/>
                <a:ext cx="695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ol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Text Box 51"/>
              <p:cNvSpPr/>
              <p:nvPr/>
            </p:nvSpPr>
            <p:spPr>
              <a:xfrm>
                <a:off x="3757680" y="6151680"/>
                <a:ext cx="97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acrophag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Line 52"/>
              <p:cNvSpPr/>
              <p:nvPr/>
            </p:nvSpPr>
            <p:spPr>
              <a:xfrm>
                <a:off x="4172040" y="5986440"/>
                <a:ext cx="0" cy="20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Text Box 53"/>
              <p:cNvSpPr/>
              <p:nvPr/>
            </p:nvSpPr>
            <p:spPr>
              <a:xfrm>
                <a:off x="3078000" y="4815000"/>
                <a:ext cx="1517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nhanc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Text Box 54"/>
              <p:cNvSpPr/>
              <p:nvPr/>
            </p:nvSpPr>
            <p:spPr>
              <a:xfrm>
                <a:off x="5916600" y="4815000"/>
                <a:ext cx="1517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eads t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56"/>
              <p:cNvSpPr/>
              <p:nvPr/>
            </p:nvSpPr>
            <p:spPr>
              <a:xfrm>
                <a:off x="7112160" y="4359240"/>
                <a:ext cx="96840" cy="19224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61" h="121">
                    <a:moveTo>
                      <a:pt x="0" y="0"/>
                    </a:moveTo>
                    <a:lnTo>
                      <a:pt x="0" y="121"/>
                    </a:lnTo>
                    <a:lnTo>
                      <a:pt x="61" y="118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4" name=""/>
          <p:cNvSpPr txBox="1"/>
          <p:nvPr/>
        </p:nvSpPr>
        <p:spPr>
          <a:xfrm>
            <a:off x="304920" y="685440"/>
            <a:ext cx="8534160" cy="16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4.9 Antibodies mark antigens for elimin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lnSpc>
                <a:spcPct val="8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ntibodies promote antigen elimin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lnSpc>
                <a:spcPct val="80000"/>
              </a:lnSpc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rough several mechanism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23"/>
          <p:cNvSpPr/>
          <p:nvPr/>
        </p:nvSpPr>
        <p:spPr>
          <a:xfrm>
            <a:off x="1319400" y="613404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4.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8e49"/>
                </a:solidFill>
                <a:latin typeface="Century Schoolbook"/>
              </a:rPr>
              <a:t>CONN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836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24.10 Monoclonal antibodies are powerful tools in the lab and clinic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49280" indent="-334800">
              <a:lnSpc>
                <a:spcPct val="9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Monoclonal antibodies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96920" indent="-533520">
              <a:lnSpc>
                <a:spcPct val="90000"/>
              </a:lnSpc>
              <a:spcBef>
                <a:spcPts val="624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Are produced by fusing B cells specific for a single antigenic determinant with easy to grow tumor cells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Group 38"/>
          <p:cNvGrpSpPr/>
          <p:nvPr/>
        </p:nvGrpSpPr>
        <p:grpSpPr>
          <a:xfrm>
            <a:off x="3370320" y="3087720"/>
            <a:ext cx="2400120" cy="3363120"/>
            <a:chOff x="3370320" y="3087720"/>
            <a:chExt cx="2400120" cy="3363120"/>
          </a:xfrm>
        </p:grpSpPr>
        <p:pic>
          <p:nvPicPr>
            <p:cNvPr id="671" name="Picture 21" descr="_x001e_24_10aMonoclonAntibodies_U.jpg                                 0051883F_x0003_203                            BE6DF1D0:"/>
            <p:cNvPicPr/>
            <p:nvPr/>
          </p:nvPicPr>
          <p:blipFill>
            <a:blip r:embed="rId1"/>
            <a:stretch/>
          </p:blipFill>
          <p:spPr>
            <a:xfrm>
              <a:off x="3400560" y="3087720"/>
              <a:ext cx="1923840" cy="31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Text Box 22"/>
            <p:cNvSpPr/>
            <p:nvPr/>
          </p:nvSpPr>
          <p:spPr>
            <a:xfrm>
              <a:off x="3370320" y="3654360"/>
              <a:ext cx="95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tigen injected into mous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23"/>
            <p:cNvSpPr/>
            <p:nvPr/>
          </p:nvSpPr>
          <p:spPr>
            <a:xfrm>
              <a:off x="4421160" y="3641760"/>
              <a:ext cx="93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umor cells grown in cultur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24"/>
            <p:cNvSpPr/>
            <p:nvPr/>
          </p:nvSpPr>
          <p:spPr>
            <a:xfrm>
              <a:off x="3422520" y="4325760"/>
              <a:ext cx="87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 cells (from spleen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 Box 25"/>
            <p:cNvSpPr/>
            <p:nvPr/>
          </p:nvSpPr>
          <p:spPr>
            <a:xfrm>
              <a:off x="4491000" y="4292640"/>
              <a:ext cx="804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umor cell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26"/>
            <p:cNvSpPr/>
            <p:nvPr/>
          </p:nvSpPr>
          <p:spPr>
            <a:xfrm flipV="1">
              <a:off x="4303800" y="5268960"/>
              <a:ext cx="54108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27"/>
            <p:cNvSpPr/>
            <p:nvPr/>
          </p:nvSpPr>
          <p:spPr>
            <a:xfrm flipV="1">
              <a:off x="4390920" y="5266800"/>
              <a:ext cx="463680" cy="7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28"/>
            <p:cNvSpPr/>
            <p:nvPr/>
          </p:nvSpPr>
          <p:spPr>
            <a:xfrm flipV="1">
              <a:off x="4373640" y="5268600"/>
              <a:ext cx="47628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Text Box 29"/>
            <p:cNvSpPr/>
            <p:nvPr/>
          </p:nvSpPr>
          <p:spPr>
            <a:xfrm>
              <a:off x="4819680" y="5072040"/>
              <a:ext cx="95076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ells fused to generate hybrid cell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 Box 30"/>
            <p:cNvSpPr/>
            <p:nvPr/>
          </p:nvSpPr>
          <p:spPr>
            <a:xfrm>
              <a:off x="4368960" y="5522760"/>
              <a:ext cx="102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ingle hybrid cell grown in cultur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Text Box 31"/>
            <p:cNvSpPr/>
            <p:nvPr/>
          </p:nvSpPr>
          <p:spPr>
            <a:xfrm>
              <a:off x="3398760" y="5802480"/>
              <a:ext cx="698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tibod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32"/>
            <p:cNvSpPr/>
            <p:nvPr/>
          </p:nvSpPr>
          <p:spPr>
            <a:xfrm>
              <a:off x="3894120" y="5918040"/>
              <a:ext cx="318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Text Box 33"/>
            <p:cNvSpPr/>
            <p:nvPr/>
          </p:nvSpPr>
          <p:spPr>
            <a:xfrm>
              <a:off x="3448080" y="6143760"/>
              <a:ext cx="178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ybrid cell culture, 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roducing monoclonal antibodie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Text Box 34"/>
          <p:cNvSpPr/>
          <p:nvPr/>
        </p:nvSpPr>
        <p:spPr>
          <a:xfrm>
            <a:off x="1319040" y="6121440"/>
            <a:ext cx="134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4.10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 txBox="1"/>
          <p:nvPr/>
        </p:nvSpPr>
        <p:spPr>
          <a:xfrm>
            <a:off x="304920" y="685800"/>
            <a:ext cx="8534160" cy="16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se molecu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re useful in research, diagnosis, and treatment of certain cancer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304920" y="685440"/>
            <a:ext cx="853416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4.11 Helper T cells stimulate humoral and cell-mediated immuni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Helper T cells and cytotoxic T cells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97200" indent="-63972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re the main effectors of cell-mediated immunit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Helper T cell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97200" indent="-63972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lso stimulate the humoral respons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304920" y="685800"/>
            <a:ext cx="8534160" cy="20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 cell-mediated immunity, an antigen-presenting cell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Displays a foreign antigen and one of the body’s own self proteins to a helper T cel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304920" y="685800"/>
            <a:ext cx="853416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helper T cell’s receptors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cognize the self-nonself complexes and the interaction activates the help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 cell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helper T cell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an then activate cytotoxic T cells 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 cell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04920" y="685800"/>
            <a:ext cx="853416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HIV, the virus that causes AIDS, attacks the immune syste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nd eventually destroys the body’s ability to fight infec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7" descr="_x0017_24_UN482AIDSbaby_UP.jpg                                        0051883F_x0003_203                            BE77EE71:"/>
          <p:cNvPicPr/>
          <p:nvPr/>
        </p:nvPicPr>
        <p:blipFill>
          <a:blip r:embed="rId1"/>
          <a:stretch/>
        </p:blipFill>
        <p:spPr>
          <a:xfrm>
            <a:off x="3365640" y="2768760"/>
            <a:ext cx="2425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 txBox="1"/>
          <p:nvPr/>
        </p:nvSpPr>
        <p:spPr>
          <a:xfrm>
            <a:off x="304920" y="685800"/>
            <a:ext cx="853416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activation of a helper T cell and its roles in immunit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15"/>
          <p:cNvSpPr/>
          <p:nvPr/>
        </p:nvSpPr>
        <p:spPr>
          <a:xfrm>
            <a:off x="1319040" y="613404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4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17" descr="_x0019_24_11HelperTcellFxn_U.jpg                                      0051883F_x0003_203                            BE6DF1D0:"/>
          <p:cNvPicPr/>
          <p:nvPr/>
        </p:nvPicPr>
        <p:blipFill>
          <a:blip r:embed="rId1"/>
          <a:stretch/>
        </p:blipFill>
        <p:spPr>
          <a:xfrm>
            <a:off x="403200" y="1967040"/>
            <a:ext cx="8299440" cy="3463920"/>
          </a:xfrm>
          <a:prstGeom prst="rect">
            <a:avLst/>
          </a:prstGeom>
          <a:ln w="0">
            <a:noFill/>
          </a:ln>
        </p:spPr>
      </p:pic>
      <p:sp>
        <p:nvSpPr>
          <p:cNvPr id="697" name="Line 18"/>
          <p:cNvSpPr/>
          <p:nvPr/>
        </p:nvSpPr>
        <p:spPr>
          <a:xfrm flipV="1">
            <a:off x="806400" y="3034800"/>
            <a:ext cx="0" cy="34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19"/>
          <p:cNvSpPr/>
          <p:nvPr/>
        </p:nvSpPr>
        <p:spPr>
          <a:xfrm>
            <a:off x="520560" y="280656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cro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20"/>
          <p:cNvSpPr/>
          <p:nvPr/>
        </p:nvSpPr>
        <p:spPr>
          <a:xfrm flipV="1">
            <a:off x="1600200" y="3193920"/>
            <a:ext cx="361800" cy="355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21"/>
          <p:cNvSpPr/>
          <p:nvPr/>
        </p:nvSpPr>
        <p:spPr>
          <a:xfrm>
            <a:off x="1555920" y="2984400"/>
            <a:ext cx="93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croph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22"/>
          <p:cNvSpPr/>
          <p:nvPr/>
        </p:nvSpPr>
        <p:spPr>
          <a:xfrm flipV="1">
            <a:off x="1441440" y="38862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23"/>
          <p:cNvSpPr/>
          <p:nvPr/>
        </p:nvSpPr>
        <p:spPr>
          <a:xfrm>
            <a:off x="736560" y="4826160"/>
            <a:ext cx="1390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igen from microbe (nonself molecu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4"/>
          <p:cNvSpPr/>
          <p:nvPr/>
        </p:nvSpPr>
        <p:spPr>
          <a:xfrm>
            <a:off x="1111320" y="3511440"/>
            <a:ext cx="26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25"/>
          <p:cNvSpPr/>
          <p:nvPr/>
        </p:nvSpPr>
        <p:spPr>
          <a:xfrm>
            <a:off x="1943280" y="4387680"/>
            <a:ext cx="93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f pro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26"/>
          <p:cNvSpPr/>
          <p:nvPr/>
        </p:nvSpPr>
        <p:spPr>
          <a:xfrm>
            <a:off x="1746360" y="4152960"/>
            <a:ext cx="27288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27"/>
          <p:cNvSpPr/>
          <p:nvPr/>
        </p:nvSpPr>
        <p:spPr>
          <a:xfrm>
            <a:off x="3392640" y="3595680"/>
            <a:ext cx="26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28"/>
          <p:cNvSpPr/>
          <p:nvPr/>
        </p:nvSpPr>
        <p:spPr>
          <a:xfrm>
            <a:off x="4183200" y="3443400"/>
            <a:ext cx="26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29"/>
          <p:cNvSpPr/>
          <p:nvPr/>
        </p:nvSpPr>
        <p:spPr>
          <a:xfrm>
            <a:off x="4689360" y="3894120"/>
            <a:ext cx="26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30"/>
          <p:cNvSpPr/>
          <p:nvPr/>
        </p:nvSpPr>
        <p:spPr>
          <a:xfrm>
            <a:off x="5908680" y="3417840"/>
            <a:ext cx="26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31"/>
          <p:cNvSpPr/>
          <p:nvPr/>
        </p:nvSpPr>
        <p:spPr>
          <a:xfrm>
            <a:off x="6434280" y="3386160"/>
            <a:ext cx="26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32"/>
          <p:cNvSpPr/>
          <p:nvPr/>
        </p:nvSpPr>
        <p:spPr>
          <a:xfrm>
            <a:off x="6443640" y="3879720"/>
            <a:ext cx="26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33"/>
          <p:cNvSpPr/>
          <p:nvPr/>
        </p:nvSpPr>
        <p:spPr>
          <a:xfrm>
            <a:off x="2654280" y="4680000"/>
            <a:ext cx="1384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tigen-presenting c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34"/>
          <p:cNvSpPr/>
          <p:nvPr/>
        </p:nvSpPr>
        <p:spPr>
          <a:xfrm flipH="1">
            <a:off x="3555720" y="4356000"/>
            <a:ext cx="19044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35"/>
          <p:cNvSpPr/>
          <p:nvPr/>
        </p:nvSpPr>
        <p:spPr>
          <a:xfrm>
            <a:off x="4038480" y="4667400"/>
            <a:ext cx="104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leukin-1 stimulates helper T c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36"/>
          <p:cNvSpPr/>
          <p:nvPr/>
        </p:nvSpPr>
        <p:spPr>
          <a:xfrm>
            <a:off x="5130720" y="3568680"/>
            <a:ext cx="615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l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 c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37"/>
          <p:cNvSpPr/>
          <p:nvPr/>
        </p:nvSpPr>
        <p:spPr>
          <a:xfrm>
            <a:off x="5499000" y="2749680"/>
            <a:ext cx="104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leukin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mul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ll divi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38"/>
          <p:cNvSpPr/>
          <p:nvPr/>
        </p:nvSpPr>
        <p:spPr>
          <a:xfrm>
            <a:off x="6921360" y="3384720"/>
            <a:ext cx="1041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leukin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tiv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ther B cells and T cel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39"/>
          <p:cNvSpPr/>
          <p:nvPr/>
        </p:nvSpPr>
        <p:spPr>
          <a:xfrm>
            <a:off x="7562880" y="2298600"/>
            <a:ext cx="10414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mo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ecretion of antibodies by plasma cell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40"/>
          <p:cNvSpPr/>
          <p:nvPr/>
        </p:nvSpPr>
        <p:spPr>
          <a:xfrm>
            <a:off x="6419880" y="4559400"/>
            <a:ext cx="819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ytotoxic T c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41"/>
          <p:cNvSpPr/>
          <p:nvPr/>
        </p:nvSpPr>
        <p:spPr>
          <a:xfrm>
            <a:off x="7562880" y="4483080"/>
            <a:ext cx="1041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ll-mediated immunity (attack on infected cell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42"/>
          <p:cNvSpPr/>
          <p:nvPr/>
        </p:nvSpPr>
        <p:spPr>
          <a:xfrm>
            <a:off x="4883040" y="4654440"/>
            <a:ext cx="66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ding site for anti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43"/>
          <p:cNvSpPr/>
          <p:nvPr/>
        </p:nvSpPr>
        <p:spPr>
          <a:xfrm>
            <a:off x="5511960" y="4648320"/>
            <a:ext cx="812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ding site for self pro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46"/>
          <p:cNvSpPr/>
          <p:nvPr/>
        </p:nvSpPr>
        <p:spPr>
          <a:xfrm>
            <a:off x="6540480" y="2489040"/>
            <a:ext cx="61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c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47"/>
          <p:cNvSpPr/>
          <p:nvPr/>
        </p:nvSpPr>
        <p:spPr>
          <a:xfrm>
            <a:off x="3613320" y="2521080"/>
            <a:ext cx="1041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f-nonsel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48"/>
          <p:cNvSpPr/>
          <p:nvPr/>
        </p:nvSpPr>
        <p:spPr>
          <a:xfrm flipV="1">
            <a:off x="4927680" y="3009600"/>
            <a:ext cx="0" cy="72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49"/>
          <p:cNvSpPr/>
          <p:nvPr/>
        </p:nvSpPr>
        <p:spPr>
          <a:xfrm>
            <a:off x="4660920" y="2635200"/>
            <a:ext cx="768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 cell recep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50"/>
          <p:cNvSpPr/>
          <p:nvPr/>
        </p:nvSpPr>
        <p:spPr>
          <a:xfrm rot="16200000">
            <a:off x="3850920" y="2943000"/>
            <a:ext cx="152640" cy="37476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74760"/>
              <a:gd name="textAreaBottom" fmla="*/ 365040 h 37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51"/>
          <p:cNvSpPr/>
          <p:nvPr/>
        </p:nvSpPr>
        <p:spPr>
          <a:xfrm flipV="1">
            <a:off x="3930480" y="2876040"/>
            <a:ext cx="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53"/>
          <p:cNvSpPr/>
          <p:nvPr/>
        </p:nvSpPr>
        <p:spPr>
          <a:xfrm>
            <a:off x="5165640" y="4363920"/>
            <a:ext cx="646200" cy="335160"/>
          </a:xfrm>
          <a:custGeom>
            <a:avLst/>
            <a:gdLst>
              <a:gd name="textAreaLeft" fmla="*/ 0 w 646200"/>
              <a:gd name="textAreaRight" fmla="*/ 646560 w 64620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407" h="211">
                <a:moveTo>
                  <a:pt x="0" y="211"/>
                </a:moveTo>
                <a:lnTo>
                  <a:pt x="167" y="0"/>
                </a:lnTo>
                <a:lnTo>
                  <a:pt x="407" y="19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8e49"/>
                </a:solidFill>
                <a:latin typeface="Century Schoolbook"/>
              </a:rPr>
              <a:t>CONN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4.12 HIV destroys helper T cells, compromising the body’s defens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e AIDS virus attacks helper T Cells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64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Opening the way for opportunistic infection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Group 6"/>
          <p:cNvGrpSpPr/>
          <p:nvPr/>
        </p:nvGrpSpPr>
        <p:grpSpPr>
          <a:xfrm>
            <a:off x="3983040" y="3957480"/>
            <a:ext cx="2678040" cy="2509920"/>
            <a:chOff x="3983040" y="3957480"/>
            <a:chExt cx="2678040" cy="2509920"/>
          </a:xfrm>
        </p:grpSpPr>
        <p:pic>
          <p:nvPicPr>
            <p:cNvPr id="734" name="Picture 7" descr="_x001a_24_12HIVattackTcell_UP.jpg                                     0051883F_x0003_203                            BE6E4107:"/>
            <p:cNvPicPr/>
            <p:nvPr/>
          </p:nvPicPr>
          <p:blipFill>
            <a:blip r:embed="rId1"/>
            <a:stretch/>
          </p:blipFill>
          <p:spPr>
            <a:xfrm>
              <a:off x="3983040" y="3957480"/>
              <a:ext cx="2487240" cy="237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Text Box 8"/>
            <p:cNvSpPr/>
            <p:nvPr/>
          </p:nvSpPr>
          <p:spPr>
            <a:xfrm rot="16180800">
              <a:off x="5839200" y="5648760"/>
              <a:ext cx="1389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lorized EM 7,000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Text Box 9"/>
          <p:cNvSpPr/>
          <p:nvPr/>
        </p:nvSpPr>
        <p:spPr>
          <a:xfrm>
            <a:off x="1319040" y="599436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4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Picture 23" descr="_x001e_24_13CytotoxicTcellFxn_3_U.jpg                                 0051883F_x0003_203                            BE6D5DC8:"/>
          <p:cNvPicPr/>
          <p:nvPr/>
        </p:nvPicPr>
        <p:blipFill>
          <a:blip r:embed="rId1"/>
          <a:stretch/>
        </p:blipFill>
        <p:spPr>
          <a:xfrm>
            <a:off x="1343160" y="2630520"/>
            <a:ext cx="7026120" cy="3701880"/>
          </a:xfrm>
          <a:prstGeom prst="rect">
            <a:avLst/>
          </a:prstGeom>
          <a:ln w="0">
            <a:noFill/>
          </a:ln>
        </p:spPr>
      </p:pic>
      <p:sp>
        <p:nvSpPr>
          <p:cNvPr id="739" name="Text Box 30"/>
          <p:cNvSpPr/>
          <p:nvPr/>
        </p:nvSpPr>
        <p:spPr>
          <a:xfrm>
            <a:off x="6747840" y="2739240"/>
            <a:ext cx="151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ed cel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destroy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28"/>
          <p:cNvSpPr/>
          <p:nvPr/>
        </p:nvSpPr>
        <p:spPr>
          <a:xfrm>
            <a:off x="1293480" y="2750400"/>
            <a:ext cx="214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toxic T cell bin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infected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29"/>
          <p:cNvSpPr/>
          <p:nvPr/>
        </p:nvSpPr>
        <p:spPr>
          <a:xfrm>
            <a:off x="4084200" y="2748960"/>
            <a:ext cx="2295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in makes holes 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ed cell’s membra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nzyme e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31"/>
          <p:cNvSpPr/>
          <p:nvPr/>
        </p:nvSpPr>
        <p:spPr>
          <a:xfrm rot="2700000">
            <a:off x="2299680" y="3616560"/>
            <a:ext cx="130320" cy="237960"/>
          </a:xfrm>
          <a:custGeom>
            <a:avLst/>
            <a:gdLst>
              <a:gd name="textAreaLeft" fmla="*/ 83160 w 130320"/>
              <a:gd name="textAreaRight" fmla="*/ 130680 w 130320"/>
              <a:gd name="textAreaTop" fmla="*/ 6120 h 237960"/>
              <a:gd name="textAreaBottom" fmla="*/ 231840 h 237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32"/>
          <p:cNvSpPr/>
          <p:nvPr/>
        </p:nvSpPr>
        <p:spPr>
          <a:xfrm>
            <a:off x="2184480" y="3556080"/>
            <a:ext cx="142920" cy="137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33"/>
          <p:cNvSpPr/>
          <p:nvPr/>
        </p:nvSpPr>
        <p:spPr>
          <a:xfrm>
            <a:off x="1486080" y="3171240"/>
            <a:ext cx="98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nonsel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34"/>
          <p:cNvSpPr/>
          <p:nvPr/>
        </p:nvSpPr>
        <p:spPr>
          <a:xfrm>
            <a:off x="1496880" y="4204440"/>
            <a:ext cx="9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ect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35"/>
          <p:cNvSpPr/>
          <p:nvPr/>
        </p:nvSpPr>
        <p:spPr>
          <a:xfrm>
            <a:off x="2685600" y="4771440"/>
            <a:ext cx="87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ytotoxic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36"/>
          <p:cNvSpPr/>
          <p:nvPr/>
        </p:nvSpPr>
        <p:spPr>
          <a:xfrm flipH="1" flipV="1">
            <a:off x="2422440" y="5057280"/>
            <a:ext cx="2476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37"/>
          <p:cNvSpPr/>
          <p:nvPr/>
        </p:nvSpPr>
        <p:spPr>
          <a:xfrm>
            <a:off x="1677240" y="4710960"/>
            <a:ext cx="7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38"/>
          <p:cNvSpPr/>
          <p:nvPr/>
        </p:nvSpPr>
        <p:spPr>
          <a:xfrm>
            <a:off x="2259000" y="4084560"/>
            <a:ext cx="4651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39"/>
          <p:cNvSpPr/>
          <p:nvPr/>
        </p:nvSpPr>
        <p:spPr>
          <a:xfrm flipV="1">
            <a:off x="2549520" y="4074840"/>
            <a:ext cx="169920" cy="53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40"/>
          <p:cNvSpPr/>
          <p:nvPr/>
        </p:nvSpPr>
        <p:spPr>
          <a:xfrm>
            <a:off x="2673360" y="3830040"/>
            <a:ext cx="69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41"/>
          <p:cNvSpPr/>
          <p:nvPr/>
        </p:nvSpPr>
        <p:spPr>
          <a:xfrm flipH="1">
            <a:off x="4789080" y="5189400"/>
            <a:ext cx="590760" cy="38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42"/>
          <p:cNvSpPr/>
          <p:nvPr/>
        </p:nvSpPr>
        <p:spPr>
          <a:xfrm>
            <a:off x="4020840" y="4733280"/>
            <a:ext cx="1031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pro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p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43"/>
          <p:cNvSpPr/>
          <p:nvPr/>
        </p:nvSpPr>
        <p:spPr>
          <a:xfrm flipV="1">
            <a:off x="4978440" y="3713040"/>
            <a:ext cx="501480" cy="46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44"/>
          <p:cNvSpPr/>
          <p:nvPr/>
        </p:nvSpPr>
        <p:spPr>
          <a:xfrm>
            <a:off x="5416920" y="3496680"/>
            <a:ext cx="68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21"/>
          <p:cNvSpPr/>
          <p:nvPr/>
        </p:nvSpPr>
        <p:spPr>
          <a:xfrm>
            <a:off x="1319040" y="594216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4.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04920" y="685440"/>
            <a:ext cx="853416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4.13 Cytotoxic T cells destroy infected body cel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spcBef>
                <a:spcPts val="649"/>
              </a:spcBef>
              <a:buClr>
                <a:srgbClr val="fe863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ytotoxic T cells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28800" indent="-571320">
              <a:spcBef>
                <a:spcPts val="649"/>
              </a:spcBef>
              <a:buClr>
                <a:srgbClr val="5194ff"/>
              </a:buClr>
              <a:buSzPct val="60000"/>
              <a:buFont typeface="Wingdings 2" charset="2"/>
              <a:buChar char="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Bind to infected body cells and destroy them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304920" y="685440"/>
            <a:ext cx="8534160" cy="20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4.14 Cytotoxic T cells may help prevent canc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ytotoxic T cells may attack cancer cell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Which have abnormal surface molecules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Group 14"/>
          <p:cNvGrpSpPr/>
          <p:nvPr/>
        </p:nvGrpSpPr>
        <p:grpSpPr>
          <a:xfrm>
            <a:off x="2793960" y="2722680"/>
            <a:ext cx="4477680" cy="3614760"/>
            <a:chOff x="2793960" y="2722680"/>
            <a:chExt cx="4477680" cy="3614760"/>
          </a:xfrm>
        </p:grpSpPr>
        <p:pic>
          <p:nvPicPr>
            <p:cNvPr id="761" name="Picture 7" descr="_x001e_24_14CytotoxTcellAttack_UP.jpg                                 0051883F_x0003_203                            BE6E4107:"/>
            <p:cNvPicPr/>
            <p:nvPr/>
          </p:nvPicPr>
          <p:blipFill>
            <a:blip r:embed="rId1"/>
            <a:srcRect l="3569" t="0" r="4656" b="0"/>
            <a:stretch/>
          </p:blipFill>
          <p:spPr>
            <a:xfrm>
              <a:off x="2793960" y="2722680"/>
              <a:ext cx="4251240" cy="36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Text Box 8"/>
            <p:cNvSpPr/>
            <p:nvPr/>
          </p:nvSpPr>
          <p:spPr>
            <a:xfrm rot="16180800">
              <a:off x="6408000" y="5436000"/>
              <a:ext cx="1472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lorized SEM 4,370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Text Box 10"/>
          <p:cNvSpPr/>
          <p:nvPr/>
        </p:nvSpPr>
        <p:spPr>
          <a:xfrm>
            <a:off x="1319040" y="600696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4.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304920" y="685800"/>
            <a:ext cx="853416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4.15 The immune system depends on our molecular fingerpri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immune syste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Normally reacts only against nonself substances, not against self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ay reject transplanted organs because these cells lack the unique “fingerprint” of the recipient’s self protein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8e49"/>
                </a:solidFill>
                <a:latin typeface="Century Schoolbook"/>
              </a:rPr>
              <a:t>DISORDERS OF THE IMMUNE SYSTEM CONNECTION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304920" y="1079280"/>
            <a:ext cx="853416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814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4.16 Malfunction or failure of the immune system causes diseas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1720" indent="-338040">
              <a:lnSpc>
                <a:spcPct val="100000"/>
              </a:lnSpc>
              <a:spcBef>
                <a:spcPts val="913"/>
              </a:spcBef>
              <a:buClr>
                <a:srgbClr val="0061a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n autoimmune diseas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lnSpc>
                <a:spcPct val="100000"/>
              </a:lnSpc>
              <a:spcBef>
                <a:spcPts val="1049"/>
              </a:spcBef>
              <a:buClr>
                <a:srgbClr val="0061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ystem turns against the body’s own molecu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1720" indent="-338040">
              <a:lnSpc>
                <a:spcPct val="100000"/>
              </a:lnSpc>
              <a:spcBef>
                <a:spcPts val="913"/>
              </a:spcBef>
              <a:buClr>
                <a:srgbClr val="0061a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n immunodeficiency diseas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lnSpc>
                <a:spcPct val="100000"/>
              </a:lnSpc>
              <a:spcBef>
                <a:spcPts val="1049"/>
              </a:spcBef>
              <a:buClr>
                <a:srgbClr val="0061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mune components are lacking, and frequent infections recu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1720" indent="-338040">
              <a:lnSpc>
                <a:spcPct val="100000"/>
              </a:lnSpc>
              <a:spcBef>
                <a:spcPts val="913"/>
              </a:spcBef>
              <a:buClr>
                <a:srgbClr val="0061a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hysical and emotional stres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lnSpc>
                <a:spcPct val="100000"/>
              </a:lnSpc>
              <a:spcBef>
                <a:spcPts val="1049"/>
              </a:spcBef>
              <a:buClr>
                <a:srgbClr val="0061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weaken the immune syste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8e49"/>
                </a:solidFill>
                <a:latin typeface="Century Schoolbook"/>
              </a:rPr>
              <a:t>CONN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24.17 Allergies are overreactions to certain environmental antigen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llergies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re abnormal sensitivities to antigens (allergens) in the surrounding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 txBox="1"/>
          <p:nvPr/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two stages of an allergic reac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6"/>
          <p:cNvSpPr/>
          <p:nvPr/>
        </p:nvSpPr>
        <p:spPr>
          <a:xfrm>
            <a:off x="1331640" y="613404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4.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8" descr="_x001c_24_17_AllergicReaction_U.jpg                                   0051883F_x0003_203                            BE6E4107:"/>
          <p:cNvPicPr/>
          <p:nvPr/>
        </p:nvPicPr>
        <p:blipFill>
          <a:blip r:embed="rId1"/>
          <a:stretch/>
        </p:blipFill>
        <p:spPr>
          <a:xfrm>
            <a:off x="63360" y="2101680"/>
            <a:ext cx="9018720" cy="3686400"/>
          </a:xfrm>
          <a:prstGeom prst="rect">
            <a:avLst/>
          </a:prstGeom>
          <a:ln w="0">
            <a:noFill/>
          </a:ln>
        </p:spPr>
      </p:pic>
      <p:sp>
        <p:nvSpPr>
          <p:cNvPr id="776" name="Text Box 9"/>
          <p:cNvSpPr/>
          <p:nvPr/>
        </p:nvSpPr>
        <p:spPr>
          <a:xfrm>
            <a:off x="2122200" y="2517840"/>
            <a:ext cx="897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cell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lasma ce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0"/>
          <p:cNvSpPr/>
          <p:nvPr/>
        </p:nvSpPr>
        <p:spPr>
          <a:xfrm>
            <a:off x="2560680" y="2887560"/>
            <a:ext cx="0" cy="406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11"/>
          <p:cNvSpPr/>
          <p:nvPr/>
        </p:nvSpPr>
        <p:spPr>
          <a:xfrm>
            <a:off x="783360" y="4233960"/>
            <a:ext cx="140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igenic determin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2"/>
          <p:cNvSpPr/>
          <p:nvPr/>
        </p:nvSpPr>
        <p:spPr>
          <a:xfrm>
            <a:off x="673200" y="4199040"/>
            <a:ext cx="195120" cy="11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13"/>
          <p:cNvSpPr/>
          <p:nvPr/>
        </p:nvSpPr>
        <p:spPr>
          <a:xfrm>
            <a:off x="31320" y="4630680"/>
            <a:ext cx="2176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4160" indent="-254160">
              <a:tabLst>
                <a:tab algn="l" pos="0"/>
                <a:tab algn="l" pos="24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ergen (pollen grain)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ers blood str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14"/>
          <p:cNvSpPr/>
          <p:nvPr/>
        </p:nvSpPr>
        <p:spPr>
          <a:xfrm>
            <a:off x="1923840" y="4629240"/>
            <a:ext cx="1659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4160" indent="-254160">
              <a:tabLst>
                <a:tab algn="l" pos="0"/>
                <a:tab algn="l" pos="24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cells mak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ibod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5"/>
          <p:cNvSpPr/>
          <p:nvPr/>
        </p:nvSpPr>
        <p:spPr>
          <a:xfrm>
            <a:off x="3722400" y="4635360"/>
            <a:ext cx="153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4160" indent="-254160">
              <a:tabLst>
                <a:tab algn="l" pos="0"/>
                <a:tab algn="l" pos="24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ibodi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tach t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st c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6"/>
          <p:cNvSpPr/>
          <p:nvPr/>
        </p:nvSpPr>
        <p:spPr>
          <a:xfrm>
            <a:off x="1959480" y="5297400"/>
            <a:ext cx="264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nsitization: Initial exposure to aller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7"/>
          <p:cNvSpPr/>
          <p:nvPr/>
        </p:nvSpPr>
        <p:spPr>
          <a:xfrm>
            <a:off x="3422880" y="3432240"/>
            <a:ext cx="48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st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8"/>
          <p:cNvSpPr/>
          <p:nvPr/>
        </p:nvSpPr>
        <p:spPr>
          <a:xfrm>
            <a:off x="3835440" y="3575160"/>
            <a:ext cx="40644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9"/>
          <p:cNvSpPr/>
          <p:nvPr/>
        </p:nvSpPr>
        <p:spPr>
          <a:xfrm>
            <a:off x="3474720" y="4371840"/>
            <a:ext cx="74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am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20"/>
          <p:cNvSpPr/>
          <p:nvPr/>
        </p:nvSpPr>
        <p:spPr>
          <a:xfrm flipV="1">
            <a:off x="4152960" y="4184280"/>
            <a:ext cx="228600" cy="29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21"/>
          <p:cNvSpPr/>
          <p:nvPr/>
        </p:nvSpPr>
        <p:spPr>
          <a:xfrm>
            <a:off x="5214600" y="4635360"/>
            <a:ext cx="1882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4160" indent="-254160">
              <a:tabLst>
                <a:tab algn="l" pos="0"/>
                <a:tab algn="l" pos="24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ergen binds t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ibodies on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st c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22"/>
          <p:cNvSpPr/>
          <p:nvPr/>
        </p:nvSpPr>
        <p:spPr>
          <a:xfrm>
            <a:off x="7058160" y="4635360"/>
            <a:ext cx="163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4160" indent="-254160">
              <a:tabLst>
                <a:tab algn="l" pos="0"/>
                <a:tab algn="l" pos="24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amine i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eased, causing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ergy sympto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23"/>
          <p:cNvSpPr/>
          <p:nvPr/>
        </p:nvSpPr>
        <p:spPr>
          <a:xfrm>
            <a:off x="5706360" y="5297400"/>
            <a:ext cx="21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ter exposure to same aller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24"/>
          <p:cNvSpPr/>
          <p:nvPr/>
        </p:nvSpPr>
        <p:spPr>
          <a:xfrm>
            <a:off x="4319280" y="5689440"/>
            <a:ext cx="153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4160" indent="-254160">
              <a:tabLst>
                <a:tab algn="l" pos="0"/>
                <a:tab algn="l" pos="24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ibodi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tach t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st c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24.1 </a:t>
            </a:r>
            <a:r>
              <a:rPr b="0" lang="en-US" sz="3000" spc="-1" strike="noStrike">
                <a:solidFill>
                  <a:srgbClr val="ff8e49"/>
                </a:solidFill>
                <a:latin typeface="Century Schoolbook"/>
              </a:rPr>
              <a:t>INNATE DEFENSES AGAINST INF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38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Innate defenses against infection include: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938"/>
              </a:spcBef>
              <a:spcAft>
                <a:spcPts val="751"/>
              </a:spcAft>
              <a:buClr>
                <a:srgbClr val="575f6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skin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938"/>
              </a:spcBef>
              <a:spcAft>
                <a:spcPts val="751"/>
              </a:spcAft>
              <a:buClr>
                <a:srgbClr val="575f6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mucous membranes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938"/>
              </a:spcBef>
              <a:spcAft>
                <a:spcPts val="751"/>
              </a:spcAft>
              <a:buClr>
                <a:srgbClr val="575f6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hagocytic cells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938"/>
              </a:spcBef>
              <a:spcAft>
                <a:spcPts val="751"/>
              </a:spcAft>
              <a:buClr>
                <a:srgbClr val="575f6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antimicrobial proteins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NATE DEFENSES ARE NON-SPECIFIC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kin- secretes acid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weat, saliva and tears contain lysozymes                   (enzyme that digests cell walls of many bacteri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omach acids kills most bacter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spiratory tract: tiny hairs in nostrils and epithelial cel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04920" y="264960"/>
            <a:ext cx="8534160" cy="29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icrobes that breach the body’s external defenses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re engulfed and destroyed by: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Neutrophils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– phagocytic; they engulf microbes in infected tissu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Macrophages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(“big eaters”) are large phagocytic cell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Natural Killers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ttack cancer cells and virus-infected cells by releasing chemical that promote cell death (apoptosis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9"/>
          <p:cNvSpPr/>
          <p:nvPr/>
        </p:nvSpPr>
        <p:spPr>
          <a:xfrm>
            <a:off x="1659240" y="614520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4.1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20"/>
          <p:cNvGrpSpPr/>
          <p:nvPr/>
        </p:nvGrpSpPr>
        <p:grpSpPr>
          <a:xfrm>
            <a:off x="2941200" y="3452760"/>
            <a:ext cx="4181400" cy="2927880"/>
            <a:chOff x="2941200" y="3452760"/>
            <a:chExt cx="4181400" cy="2927880"/>
          </a:xfrm>
        </p:grpSpPr>
        <p:pic>
          <p:nvPicPr>
            <p:cNvPr id="369" name="Picture 8" descr="_x001b_24_01MacrophagPhago_ UP.jpg                                    0051883F_x0003_203                            BE6DF1D0:"/>
            <p:cNvPicPr/>
            <p:nvPr/>
          </p:nvPicPr>
          <p:blipFill>
            <a:blip r:embed="rId1"/>
            <a:stretch/>
          </p:blipFill>
          <p:spPr>
            <a:xfrm>
              <a:off x="3102480" y="3452760"/>
              <a:ext cx="4020120" cy="28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ectangle 11"/>
            <p:cNvSpPr/>
            <p:nvPr/>
          </p:nvSpPr>
          <p:spPr>
            <a:xfrm rot="16171800">
              <a:off x="2098800" y="5221800"/>
              <a:ext cx="20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lorized SEM 3,800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8"/>
            <p:cNvSpPr/>
            <p:nvPr/>
          </p:nvSpPr>
          <p:spPr>
            <a:xfrm>
              <a:off x="4376880" y="4002120"/>
              <a:ext cx="1542600" cy="1876680"/>
            </a:xfrm>
            <a:custGeom>
              <a:avLst/>
              <a:gdLst>
                <a:gd name="textAreaLeft" fmla="*/ 0 w 1542600"/>
                <a:gd name="textAreaRight" fmla="*/ 1542960 w 1542600"/>
                <a:gd name="textAreaTop" fmla="*/ 0 h 1876680"/>
                <a:gd name="textAreaBottom" fmla="*/ 1877040 h 1876680"/>
              </a:gdLst>
              <a:ahLst/>
              <a:rect l="textAreaLeft" t="textAreaTop" r="textAreaRight" b="textAreaBottom"/>
              <a:pathLst>
                <a:path w="1139" h="1472">
                  <a:moveTo>
                    <a:pt x="0" y="0"/>
                  </a:moveTo>
                  <a:lnTo>
                    <a:pt x="358" y="1472"/>
                  </a:lnTo>
                  <a:lnTo>
                    <a:pt x="1139" y="1466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19"/>
            <p:cNvSpPr/>
            <p:nvPr/>
          </p:nvSpPr>
          <p:spPr>
            <a:xfrm>
              <a:off x="4386960" y="584712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cter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54" descr="_x001e_24_01bInterferonFunction_U.jpg                                 0051883F_x0003_203                            BE6DF1D0:"/>
          <p:cNvPicPr/>
          <p:nvPr/>
        </p:nvPicPr>
        <p:blipFill>
          <a:blip r:embed="rId1"/>
          <a:stretch/>
        </p:blipFill>
        <p:spPr>
          <a:xfrm>
            <a:off x="2232000" y="2401920"/>
            <a:ext cx="6508800" cy="373536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69"/>
          <p:cNvSpPr/>
          <p:nvPr/>
        </p:nvSpPr>
        <p:spPr>
          <a:xfrm>
            <a:off x="5072040" y="3233880"/>
            <a:ext cx="90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viru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73"/>
          <p:cNvSpPr/>
          <p:nvPr/>
        </p:nvSpPr>
        <p:spPr>
          <a:xfrm>
            <a:off x="2979720" y="5864400"/>
            <a:ext cx="12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x001d__x001d__x001d__x001d_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st cell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kes interferon;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killed by vir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72"/>
          <p:cNvSpPr/>
          <p:nvPr/>
        </p:nvSpPr>
        <p:spPr>
          <a:xfrm>
            <a:off x="5261040" y="574524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74"/>
          <p:cNvSpPr/>
          <p:nvPr/>
        </p:nvSpPr>
        <p:spPr>
          <a:xfrm>
            <a:off x="6570720" y="5856120"/>
            <a:ext cx="1563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x001d__x001d__x001d__x001d_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st cell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ected against virus by interferon from cell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98040" y="698400"/>
            <a:ext cx="8534520" cy="16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06440" indent="-29196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terferons are proteins produced by virus-infected cells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434960" indent="-57132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at help other cells resist virus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79" name="Group 90"/>
          <p:cNvGrpSpPr/>
          <p:nvPr/>
        </p:nvGrpSpPr>
        <p:grpSpPr>
          <a:xfrm>
            <a:off x="2479680" y="3132000"/>
            <a:ext cx="981000" cy="793440"/>
            <a:chOff x="2479680" y="3132000"/>
            <a:chExt cx="981000" cy="793440"/>
          </a:xfrm>
        </p:grpSpPr>
        <p:sp>
          <p:nvSpPr>
            <p:cNvPr id="380" name="Text Box 57"/>
            <p:cNvSpPr/>
            <p:nvPr/>
          </p:nvSpPr>
          <p:spPr>
            <a:xfrm>
              <a:off x="2479680" y="3132000"/>
              <a:ext cx="24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59"/>
            <p:cNvSpPr/>
            <p:nvPr/>
          </p:nvSpPr>
          <p:spPr>
            <a:xfrm>
              <a:off x="2695680" y="3171960"/>
              <a:ext cx="765000" cy="75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298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rferon genes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urned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Line 60"/>
          <p:cNvSpPr/>
          <p:nvPr/>
        </p:nvSpPr>
        <p:spPr>
          <a:xfrm>
            <a:off x="2989440" y="3886200"/>
            <a:ext cx="398160" cy="6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81"/>
          <p:cNvGrpSpPr/>
          <p:nvPr/>
        </p:nvGrpSpPr>
        <p:grpSpPr>
          <a:xfrm>
            <a:off x="2494080" y="4490640"/>
            <a:ext cx="1017000" cy="283320"/>
            <a:chOff x="2494080" y="4490640"/>
            <a:chExt cx="1017000" cy="283320"/>
          </a:xfrm>
        </p:grpSpPr>
        <p:sp>
          <p:nvSpPr>
            <p:cNvPr id="384" name="Text Box 62"/>
            <p:cNvSpPr/>
            <p:nvPr/>
          </p:nvSpPr>
          <p:spPr>
            <a:xfrm>
              <a:off x="2494080" y="4527720"/>
              <a:ext cx="630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63"/>
            <p:cNvSpPr/>
            <p:nvPr/>
          </p:nvSpPr>
          <p:spPr>
            <a:xfrm flipV="1">
              <a:off x="2968200" y="4490640"/>
              <a:ext cx="542880" cy="13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Group 80"/>
          <p:cNvGrpSpPr/>
          <p:nvPr/>
        </p:nvGrpSpPr>
        <p:grpSpPr>
          <a:xfrm>
            <a:off x="3228840" y="4829040"/>
            <a:ext cx="804960" cy="625320"/>
            <a:chOff x="3228840" y="4829040"/>
            <a:chExt cx="804960" cy="625320"/>
          </a:xfrm>
        </p:grpSpPr>
        <p:sp>
          <p:nvSpPr>
            <p:cNvPr id="387" name="Text Box 61"/>
            <p:cNvSpPr/>
            <p:nvPr/>
          </p:nvSpPr>
          <p:spPr>
            <a:xfrm>
              <a:off x="3503520" y="4829040"/>
              <a:ext cx="241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64"/>
            <p:cNvSpPr/>
            <p:nvPr/>
          </p:nvSpPr>
          <p:spPr>
            <a:xfrm>
              <a:off x="3228840" y="5106960"/>
              <a:ext cx="80496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8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rferon molecu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84"/>
          <p:cNvGrpSpPr/>
          <p:nvPr/>
        </p:nvGrpSpPr>
        <p:grpSpPr>
          <a:xfrm>
            <a:off x="3921120" y="4014720"/>
            <a:ext cx="587520" cy="568440"/>
            <a:chOff x="3921120" y="4014720"/>
            <a:chExt cx="587520" cy="568440"/>
          </a:xfrm>
        </p:grpSpPr>
        <p:sp>
          <p:nvSpPr>
            <p:cNvPr id="390" name="Line 65"/>
            <p:cNvSpPr/>
            <p:nvPr/>
          </p:nvSpPr>
          <p:spPr>
            <a:xfrm>
              <a:off x="3921120" y="4014720"/>
              <a:ext cx="339840" cy="338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66"/>
            <p:cNvSpPr/>
            <p:nvPr/>
          </p:nvSpPr>
          <p:spPr>
            <a:xfrm>
              <a:off x="4033800" y="433692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93"/>
          <p:cNvGrpSpPr/>
          <p:nvPr/>
        </p:nvGrpSpPr>
        <p:grpSpPr>
          <a:xfrm>
            <a:off x="3182760" y="2440080"/>
            <a:ext cx="1371600" cy="507960"/>
            <a:chOff x="3182760" y="2440080"/>
            <a:chExt cx="1371600" cy="507960"/>
          </a:xfrm>
        </p:grpSpPr>
        <p:sp>
          <p:nvSpPr>
            <p:cNvPr id="393" name="Line 67"/>
            <p:cNvSpPr/>
            <p:nvPr/>
          </p:nvSpPr>
          <p:spPr>
            <a:xfrm flipV="1">
              <a:off x="3182760" y="2599920"/>
              <a:ext cx="271800" cy="13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4" name="Group 92"/>
            <p:cNvGrpSpPr/>
            <p:nvPr/>
          </p:nvGrpSpPr>
          <p:grpSpPr>
            <a:xfrm>
              <a:off x="3387600" y="2440080"/>
              <a:ext cx="1166760" cy="507960"/>
              <a:chOff x="3387600" y="2440080"/>
              <a:chExt cx="1166760" cy="507960"/>
            </a:xfrm>
          </p:grpSpPr>
          <p:sp>
            <p:nvSpPr>
              <p:cNvPr id="395" name="Text Box 58"/>
              <p:cNvSpPr/>
              <p:nvPr/>
            </p:nvSpPr>
            <p:spPr>
              <a:xfrm>
                <a:off x="3449520" y="2701800"/>
                <a:ext cx="241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Text Box 68"/>
              <p:cNvSpPr/>
              <p:nvPr/>
            </p:nvSpPr>
            <p:spPr>
              <a:xfrm>
                <a:off x="3387600" y="2440080"/>
                <a:ext cx="1166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Viral nucleic aci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7" name="Group 85"/>
          <p:cNvGrpSpPr/>
          <p:nvPr/>
        </p:nvGrpSpPr>
        <p:grpSpPr>
          <a:xfrm>
            <a:off x="6966000" y="2535120"/>
            <a:ext cx="1565280" cy="694800"/>
            <a:chOff x="6966000" y="2535120"/>
            <a:chExt cx="1565280" cy="694800"/>
          </a:xfrm>
        </p:grpSpPr>
        <p:sp>
          <p:nvSpPr>
            <p:cNvPr id="398" name="Text Box 55"/>
            <p:cNvSpPr/>
            <p:nvPr/>
          </p:nvSpPr>
          <p:spPr>
            <a:xfrm>
              <a:off x="6966000" y="2535120"/>
              <a:ext cx="1565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iviral proteins block viral reprod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70"/>
            <p:cNvSpPr/>
            <p:nvPr/>
          </p:nvSpPr>
          <p:spPr>
            <a:xfrm flipV="1">
              <a:off x="7175520" y="2891880"/>
              <a:ext cx="406440" cy="338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86"/>
          <p:cNvGrpSpPr/>
          <p:nvPr/>
        </p:nvGrpSpPr>
        <p:grpSpPr>
          <a:xfrm>
            <a:off x="6813720" y="4851360"/>
            <a:ext cx="1409400" cy="804600"/>
            <a:chOff x="6813720" y="4851360"/>
            <a:chExt cx="1409400" cy="804600"/>
          </a:xfrm>
        </p:grpSpPr>
        <p:sp>
          <p:nvSpPr>
            <p:cNvPr id="401" name="Text Box 56"/>
            <p:cNvSpPr/>
            <p:nvPr/>
          </p:nvSpPr>
          <p:spPr>
            <a:xfrm>
              <a:off x="6813720" y="5105160"/>
              <a:ext cx="1409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rferon stimulates cell to turn on genes for antiviral protei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71"/>
            <p:cNvSpPr/>
            <p:nvPr/>
          </p:nvSpPr>
          <p:spPr>
            <a:xfrm>
              <a:off x="7151760" y="4851360"/>
              <a:ext cx="27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Text Box 76"/>
          <p:cNvSpPr/>
          <p:nvPr/>
        </p:nvSpPr>
        <p:spPr>
          <a:xfrm>
            <a:off x="1306800" y="605808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4.1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04920" y="685440"/>
            <a:ext cx="8534160" cy="16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4.2 The inflammatory response mobilizes nonspecific defense forc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25600" indent="-321120">
              <a:spcBef>
                <a:spcPts val="814"/>
              </a:spcBef>
              <a:buClr>
                <a:srgbClr val="fe863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issue damage triggers the inflammatory respons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9" descr="_x001f_24_02InflammatoryResponse_U.jpg                                0051883F_x0003_203                            BE6DF1D0:"/>
          <p:cNvPicPr/>
          <p:nvPr/>
        </p:nvPicPr>
        <p:blipFill>
          <a:blip r:embed="rId1"/>
          <a:stretch/>
        </p:blipFill>
        <p:spPr>
          <a:xfrm>
            <a:off x="304920" y="2376360"/>
            <a:ext cx="8520120" cy="3407040"/>
          </a:xfrm>
          <a:prstGeom prst="rect">
            <a:avLst/>
          </a:prstGeom>
          <a:ln w="0">
            <a:noFill/>
          </a:ln>
        </p:spPr>
      </p:pic>
      <p:sp>
        <p:nvSpPr>
          <p:cNvPr id="407" name="Line 10"/>
          <p:cNvSpPr/>
          <p:nvPr/>
        </p:nvSpPr>
        <p:spPr>
          <a:xfrm flipH="1">
            <a:off x="1277640" y="2989440"/>
            <a:ext cx="423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1"/>
          <p:cNvSpPr/>
          <p:nvPr/>
        </p:nvSpPr>
        <p:spPr>
          <a:xfrm>
            <a:off x="965160" y="2846520"/>
            <a:ext cx="67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n_x001d__x001d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2"/>
          <p:cNvSpPr/>
          <p:nvPr/>
        </p:nvSpPr>
        <p:spPr>
          <a:xfrm flipV="1">
            <a:off x="2176560" y="3022560"/>
            <a:ext cx="25380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3"/>
          <p:cNvSpPr/>
          <p:nvPr/>
        </p:nvSpPr>
        <p:spPr>
          <a:xfrm>
            <a:off x="2360520" y="2846520"/>
            <a:ext cx="115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kin su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4"/>
          <p:cNvSpPr/>
          <p:nvPr/>
        </p:nvSpPr>
        <p:spPr>
          <a:xfrm>
            <a:off x="1697040" y="3855960"/>
            <a:ext cx="387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5"/>
          <p:cNvSpPr/>
          <p:nvPr/>
        </p:nvSpPr>
        <p:spPr>
          <a:xfrm>
            <a:off x="1671480" y="3662280"/>
            <a:ext cx="420840" cy="193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6"/>
          <p:cNvSpPr/>
          <p:nvPr/>
        </p:nvSpPr>
        <p:spPr>
          <a:xfrm>
            <a:off x="2028960" y="3716280"/>
            <a:ext cx="83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7"/>
          <p:cNvSpPr/>
          <p:nvPr/>
        </p:nvSpPr>
        <p:spPr>
          <a:xfrm>
            <a:off x="1590840" y="4205160"/>
            <a:ext cx="376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8"/>
          <p:cNvSpPr/>
          <p:nvPr/>
        </p:nvSpPr>
        <p:spPr>
          <a:xfrm>
            <a:off x="1554120" y="4017960"/>
            <a:ext cx="420840" cy="193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9"/>
          <p:cNvSpPr/>
          <p:nvPr/>
        </p:nvSpPr>
        <p:spPr>
          <a:xfrm>
            <a:off x="1914480" y="4067280"/>
            <a:ext cx="836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mical sign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20"/>
          <p:cNvSpPr/>
          <p:nvPr/>
        </p:nvSpPr>
        <p:spPr>
          <a:xfrm flipV="1">
            <a:off x="2076480" y="4589280"/>
            <a:ext cx="317520" cy="36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1"/>
          <p:cNvSpPr/>
          <p:nvPr/>
        </p:nvSpPr>
        <p:spPr>
          <a:xfrm>
            <a:off x="2336760" y="4438800"/>
            <a:ext cx="78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ite blood c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41"/>
          <p:cNvGrpSpPr/>
          <p:nvPr/>
        </p:nvGrpSpPr>
        <p:grpSpPr>
          <a:xfrm>
            <a:off x="498600" y="5351400"/>
            <a:ext cx="2649240" cy="398520"/>
            <a:chOff x="498600" y="5351400"/>
            <a:chExt cx="2649240" cy="398520"/>
          </a:xfrm>
        </p:grpSpPr>
        <p:sp>
          <p:nvSpPr>
            <p:cNvPr id="420" name="Text Box 22"/>
            <p:cNvSpPr/>
            <p:nvPr/>
          </p:nvSpPr>
          <p:spPr>
            <a:xfrm>
              <a:off x="498600" y="5370480"/>
              <a:ext cx="22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25"/>
            <p:cNvSpPr/>
            <p:nvPr/>
          </p:nvSpPr>
          <p:spPr>
            <a:xfrm>
              <a:off x="635040" y="5351400"/>
              <a:ext cx="25128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ssue injury; release of chemical signals such as histam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42"/>
          <p:cNvGrpSpPr/>
          <p:nvPr/>
        </p:nvGrpSpPr>
        <p:grpSpPr>
          <a:xfrm>
            <a:off x="3200400" y="5346720"/>
            <a:ext cx="2639880" cy="550800"/>
            <a:chOff x="3200400" y="5346720"/>
            <a:chExt cx="2639880" cy="550800"/>
          </a:xfrm>
        </p:grpSpPr>
        <p:sp>
          <p:nvSpPr>
            <p:cNvPr id="423" name="Text Box 23"/>
            <p:cNvSpPr/>
            <p:nvPr/>
          </p:nvSpPr>
          <p:spPr>
            <a:xfrm>
              <a:off x="3200400" y="5365800"/>
              <a:ext cx="22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26"/>
            <p:cNvSpPr/>
            <p:nvPr/>
          </p:nvSpPr>
          <p:spPr>
            <a:xfrm>
              <a:off x="3384720" y="5346720"/>
              <a:ext cx="2455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lation and increased leakiness of local blood vessels; migration of phagocytes to the are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43"/>
          <p:cNvGrpSpPr/>
          <p:nvPr/>
        </p:nvGrpSpPr>
        <p:grpSpPr>
          <a:xfrm>
            <a:off x="6058080" y="5351400"/>
            <a:ext cx="2558880" cy="550800"/>
            <a:chOff x="6058080" y="5351400"/>
            <a:chExt cx="2558880" cy="550800"/>
          </a:xfrm>
        </p:grpSpPr>
        <p:sp>
          <p:nvSpPr>
            <p:cNvPr id="426" name="Text Box 24"/>
            <p:cNvSpPr/>
            <p:nvPr/>
          </p:nvSpPr>
          <p:spPr>
            <a:xfrm>
              <a:off x="6058080" y="5365800"/>
              <a:ext cx="22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7"/>
            <p:cNvSpPr/>
            <p:nvPr/>
          </p:nvSpPr>
          <p:spPr>
            <a:xfrm>
              <a:off x="6262560" y="5351400"/>
              <a:ext cx="235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agocytes (macrophages and neutrophils) consume bacteria and cell debris; tissue hea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Line 28"/>
          <p:cNvSpPr/>
          <p:nvPr/>
        </p:nvSpPr>
        <p:spPr>
          <a:xfrm flipV="1">
            <a:off x="5003640" y="3048120"/>
            <a:ext cx="393840" cy="196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29"/>
          <p:cNvSpPr/>
          <p:nvPr/>
        </p:nvSpPr>
        <p:spPr>
          <a:xfrm>
            <a:off x="5334120" y="288936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30"/>
          <p:cNvSpPr/>
          <p:nvPr/>
        </p:nvSpPr>
        <p:spPr>
          <a:xfrm>
            <a:off x="4610160" y="3720960"/>
            <a:ext cx="113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gocytes and fluid move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o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31"/>
          <p:cNvSpPr/>
          <p:nvPr/>
        </p:nvSpPr>
        <p:spPr>
          <a:xfrm flipV="1">
            <a:off x="7607160" y="3917880"/>
            <a:ext cx="298440" cy="38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32"/>
          <p:cNvSpPr/>
          <p:nvPr/>
        </p:nvSpPr>
        <p:spPr>
          <a:xfrm flipV="1">
            <a:off x="7804080" y="3905280"/>
            <a:ext cx="108000" cy="311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33"/>
          <p:cNvSpPr/>
          <p:nvPr/>
        </p:nvSpPr>
        <p:spPr>
          <a:xfrm>
            <a:off x="7835760" y="3778200"/>
            <a:ext cx="113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gocy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34"/>
          <p:cNvSpPr/>
          <p:nvPr/>
        </p:nvSpPr>
        <p:spPr>
          <a:xfrm>
            <a:off x="501480" y="5111640"/>
            <a:ext cx="102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ood vess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35"/>
          <p:cNvSpPr/>
          <p:nvPr/>
        </p:nvSpPr>
        <p:spPr>
          <a:xfrm>
            <a:off x="378000" y="609588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304920" y="685800"/>
            <a:ext cx="8534160" cy="16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4960" indent="-34776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inflammatory respons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33480" indent="-51264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an disinfect tissues and limit further infec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0:54:38Z</dcterms:created>
  <dc:creator>Christopher Delgado</dc:creator>
  <dc:description/>
  <dc:language>en-US</dc:language>
  <cp:lastModifiedBy> </cp:lastModifiedBy>
  <cp:lastPrinted>2005-03-31T09:14:48Z</cp:lastPrinted>
  <dcterms:modified xsi:type="dcterms:W3CDTF">2010-04-28T14:37:58Z</dcterms:modified>
  <cp:revision>547</cp:revision>
  <dc:subject/>
  <dc:title>Slide 1</dc:title>
</cp:coreProperties>
</file>